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E8B-32A9-49A2-B679-EFF4FDAE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A66-696A-4966-97FA-FF086B6A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08-C33E-4524-88B9-F5DAE575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B9A-A3B7-4316-8F63-7B7B8F41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DE1-FE34-4919-81EB-2A85F4E8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B0-A16F-4BF2-81A2-8866757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0D7-8762-4E0A-BDA6-76EB5EB1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124-9A81-4FC2-A3C2-8972F02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4D-9DC0-4B91-AC2A-2436EFC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DCF-F539-4104-9C0B-8D85546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1D2-8058-47EB-B7FA-E6CBA88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FEB-92BD-4E0A-9923-7652EC8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ACDE-F47C-49C8-BF4D-3C876E2E6755}" type="datetime">
              <a:rPr b="1" lang="de-DE" sz="1200" spc="-1" strike="noStrike">
                <a:solidFill>
                  <a:srgbClr val="00009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5152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Bildungsstandards und Fortbild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40C-50F4-452D-9E78-4643C980DEC9}" type="slidenum">
              <a:rPr b="1" lang="de-DE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52280"/>
          <a:ext cx="226692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22669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286000" y="22860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Institut zur Qualitätsentwicklung im Bildungswesen (IQ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Verdana"/>
              </a:rPr>
              <a:t>Wissenschaftliche Einrichtung der Länder der Bundesrepublik Deutschland</a:t>
            </a: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967520" y="0"/>
            <a:ext cx="94788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349360"/>
            <a:ext cx="8763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in der Bundesrepublik und ihre Bedeutung für die Schul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rof. Dr. Olaf Kö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stitut zur Qualitätsentwicklung im Bildungswesen (IQB)</a:t>
            </a:r>
            <a:r>
              <a:rPr b="1" lang="de-DE" sz="2000" spc="-1" strike="noStrike">
                <a:solidFill>
                  <a:srgbClr val="000099"/>
                </a:solidFill>
                <a:latin typeface="Lucida Console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C8A-B9B7-4A0E-9F65-20A60ECC3EC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B6AA-D116-4388-836D-38CA1E4EEC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10065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rbeitslosigkeitsrisiko in ausgewählten Ländern nach Leseverständ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2019240"/>
          <a:ext cx="76201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19240"/>
                    <a:ext cx="76201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B68-7D94-4B8E-9AF1-7E301AE0564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95E7C-EF9A-456B-9381-ED5F12698D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Struktur des Kerncurriculums: </a:t>
            </a: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odi der Welterfahrung und Basiskompet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68360" y="2019240"/>
            <a:ext cx="8085240" cy="1686240"/>
            <a:chOff x="468360" y="2019240"/>
            <a:chExt cx="8085240" cy="1686240"/>
          </a:xfrm>
        </p:grpSpPr>
        <p:sp>
          <p:nvSpPr>
            <p:cNvPr id="72" name=""/>
            <p:cNvSpPr/>
            <p:nvPr/>
          </p:nvSpPr>
          <p:spPr>
            <a:xfrm>
              <a:off x="2706840" y="2036880"/>
              <a:ext cx="5802120" cy="326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32280" y="210348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Basale Spr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80960" y="2103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27400" y="2103480"/>
              <a:ext cx="421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und Selbstregulationskompetenzen (Kulturwerkzeug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78480" y="2103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6600" y="2036880"/>
              <a:ext cx="30240" cy="325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08960" y="2036880"/>
              <a:ext cx="30240" cy="325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360" y="2019240"/>
              <a:ext cx="1440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36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2760" y="201924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2760" y="2035080"/>
              <a:ext cx="2179440" cy="1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2200" y="2035080"/>
              <a:ext cx="1440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220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76600" y="2019240"/>
              <a:ext cx="58626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6600" y="2035080"/>
              <a:ext cx="5862600" cy="1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39200" y="2019240"/>
              <a:ext cx="1440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920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36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220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3920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880" y="2036880"/>
              <a:ext cx="2008080" cy="392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840" y="2232000"/>
              <a:ext cx="19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Modi der Welterfahru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3880" y="2428920"/>
              <a:ext cx="200808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4920" y="2430360"/>
              <a:ext cx="106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(Kanonisch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3880" y="2625840"/>
              <a:ext cx="200808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3840" y="2629080"/>
              <a:ext cx="162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Orientierungswiss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4880" y="262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31960" y="2036880"/>
              <a:ext cx="30240" cy="78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3880" y="2824200"/>
              <a:ext cx="2038320" cy="11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6840" y="237960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07560" y="2382840"/>
              <a:ext cx="130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Beherrschung de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6840" y="256536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6840" y="2568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Verkehrsspra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7660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862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6600" y="2751120"/>
              <a:ext cx="1339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0800" y="237960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62240" y="238284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Mathematis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76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0800" y="256536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2600" y="2568600"/>
              <a:ext cx="1171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rungskompe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0524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056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0560" y="2751120"/>
              <a:ext cx="1339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5120" y="2379600"/>
              <a:ext cx="108576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6560" y="238284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Fremdsprachl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5120" y="2565360"/>
              <a:ext cx="108576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6200" y="25686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Kompe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208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48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008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84880" y="2751120"/>
              <a:ext cx="114624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75400" y="2379600"/>
              <a:ext cx="7952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74680" y="238284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532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01480" y="238284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Kom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936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5400" y="2565360"/>
              <a:ext cx="7952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5400" y="25686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6268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6960" y="2379600"/>
              <a:ext cx="284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064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46960" y="2751120"/>
              <a:ext cx="853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46960" y="2379600"/>
              <a:ext cx="106200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48040" y="238284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Selbstregul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9944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6960" y="2565360"/>
              <a:ext cx="106200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47680" y="25686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tion des W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91520" y="25686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46960" y="2751120"/>
              <a:ext cx="106200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240" y="27543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sens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75360" y="275436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wer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89720" y="275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16720" y="2379600"/>
              <a:ext cx="30240" cy="55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08960" y="2379600"/>
              <a:ext cx="30240" cy="55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220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6600" y="23623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6600" y="23781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16520" y="2378160"/>
              <a:ext cx="140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16520" y="2362320"/>
              <a:ext cx="140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0560" y="23623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0560" y="23781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0480" y="2378160"/>
              <a:ext cx="144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70480" y="236232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4880" y="236232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4880" y="237816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1120" y="2378160"/>
              <a:ext cx="15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31120" y="236232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46960" y="236232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46960" y="237816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00880" y="2378160"/>
              <a:ext cx="15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0880" y="236232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6720" y="236232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16720" y="237816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920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220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16520" y="2379600"/>
              <a:ext cx="140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7048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31120" y="2379600"/>
              <a:ext cx="158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0880" y="2379600"/>
              <a:ext cx="158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3920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3880" y="295272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40" y="29559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Kogniti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3320" y="29559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2955960"/>
              <a:ext cx="105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instrumentel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3880" y="313848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0320" y="3141720"/>
              <a:ext cx="160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Modellierung der We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460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1960" y="2952720"/>
              <a:ext cx="30240" cy="370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295272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648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660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2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76600" y="31496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60800" y="295272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08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056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4024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0560" y="31496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15120" y="2952720"/>
              <a:ext cx="108576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476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848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08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84880" y="314964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75400" y="2952720"/>
              <a:ext cx="795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754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46960" y="295272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7064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46960" y="314964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46960" y="2952720"/>
              <a:ext cx="106200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66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1672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0896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6720" y="314964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36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760" y="293544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2760" y="295128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220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76600" y="293544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76600" y="295128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16520" y="2935440"/>
              <a:ext cx="140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0560" y="293544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0560" y="295128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048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84880" y="293544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84880" y="295128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31120" y="293544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46960" y="293544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6960" y="295128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0880" y="293544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16720" y="293544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16720" y="295128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3920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36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220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6520" y="2952720"/>
              <a:ext cx="140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7048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31120" y="295272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0880" y="295272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920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880" y="332280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800" y="3325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5320" y="3325680"/>
              <a:ext cx="73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Mathema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23600" y="3325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960" y="332280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3880" y="3495600"/>
              <a:ext cx="2038320" cy="25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06840" y="33228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648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660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862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0800" y="33228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08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056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4024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5120" y="332280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476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48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008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75400" y="332280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754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46960" y="3322800"/>
              <a:ext cx="28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064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46960" y="332280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66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1672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0896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220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16520" y="3322800"/>
              <a:ext cx="140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048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120" y="332280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00880" y="332280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920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3880" y="352116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7800" y="3522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6040" y="3522600"/>
              <a:ext cx="126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aturwissenschaf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8360" y="3521160"/>
            <a:ext cx="8085240" cy="1851120"/>
            <a:chOff x="468360" y="3521160"/>
            <a:chExt cx="8085240" cy="1851120"/>
          </a:xfrm>
        </p:grpSpPr>
        <p:sp>
          <p:nvSpPr>
            <p:cNvPr id="273" name=""/>
            <p:cNvSpPr/>
            <p:nvPr/>
          </p:nvSpPr>
          <p:spPr>
            <a:xfrm>
              <a:off x="2155320" y="3522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1960" y="352116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880" y="3693960"/>
              <a:ext cx="2038320" cy="2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6840" y="352116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648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7660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62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0800" y="352116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08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056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4024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5120" y="352116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476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848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008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75400" y="352116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754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6960" y="352116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7064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46960" y="352116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466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672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0896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36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220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16520" y="3521160"/>
              <a:ext cx="140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7048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31120" y="352116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00880" y="352116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920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3880" y="373680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80" y="37386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Aesthetis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59080" y="37386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12720" y="3738600"/>
              <a:ext cx="76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expressiv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3880" y="392112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1760" y="392436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Begegnung und Gestalt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8360" y="392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1960" y="3736800"/>
              <a:ext cx="30240" cy="370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06840" y="373680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648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7660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862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6600" y="393372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0800" y="373680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608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056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024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30560" y="393372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5120" y="3736800"/>
              <a:ext cx="108576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476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48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008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4880" y="393372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75400" y="3736800"/>
              <a:ext cx="795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754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46960" y="373680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7064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46960" y="393372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46960" y="3736800"/>
              <a:ext cx="106200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466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672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0896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16720" y="393372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836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2760" y="371952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2760" y="373536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6220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6600" y="37195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76600" y="37353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16520" y="3719520"/>
              <a:ext cx="140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0560" y="37195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0560" y="37353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7048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84880" y="371952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84880" y="373536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31120" y="371952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46960" y="371952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46960" y="373536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0880" y="371952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16720" y="371952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16720" y="373536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920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36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220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16520" y="3736800"/>
              <a:ext cx="140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7048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31120" y="373680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0880" y="373680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53920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3880" y="410688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780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7120" y="411012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Sprache/Literat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5372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319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6840" y="41068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648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660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862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60800" y="41068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044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05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24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15120" y="410688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476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848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008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75400" y="410688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7504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46960" y="410688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7064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6960" y="410688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4660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1672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089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836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6220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16520" y="410688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7048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31120" y="41068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00880" y="41068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3920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3880" y="428004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780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96040" y="428292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Musik/Malerei/Bilden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880" y="445284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7800" y="44560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3160" y="445608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Ku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5320" y="44560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31960" y="4280040"/>
              <a:ext cx="30240" cy="34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06840" y="42800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0648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7660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862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76600" y="44528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0800" y="42800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6044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056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4024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0560" y="44528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5120" y="428004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1476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848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08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84880" y="445284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75400" y="428004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7504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6960" y="428004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064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46960" y="445284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46960" y="428004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4660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672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0896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16720" y="445284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836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220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16520" y="4280040"/>
              <a:ext cx="140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048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31120" y="4280040"/>
              <a:ext cx="158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00880" y="4280040"/>
              <a:ext cx="158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3920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3880" y="462600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780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93880" y="4629240"/>
              <a:ext cx="132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Physische Ex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32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19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06840" y="462600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648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660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862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0800" y="462600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044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305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4024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5120" y="462600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476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848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008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75400" y="462600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7504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46960" y="462600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64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6960" y="462600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4660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1672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089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36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6220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16520" y="462600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048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31120" y="462600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00880" y="462600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3920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880" y="4815000"/>
              <a:ext cx="2008080" cy="18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9240" y="481824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Normati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30200" y="4818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85280" y="481824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evaluativ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3880" y="500220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1040" y="5003640"/>
              <a:ext cx="174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Auseinandersetzung mi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3880" y="518796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68360" y="4799160"/>
            <a:ext cx="8085240" cy="1668240"/>
            <a:chOff x="468360" y="4799160"/>
            <a:chExt cx="8085240" cy="1668240"/>
          </a:xfrm>
        </p:grpSpPr>
        <p:sp>
          <p:nvSpPr>
            <p:cNvPr id="474" name=""/>
            <p:cNvSpPr/>
            <p:nvPr/>
          </p:nvSpPr>
          <p:spPr>
            <a:xfrm>
              <a:off x="671400" y="518940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Wirtschaft und Gesellschaf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00280" y="5189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31960" y="4815000"/>
              <a:ext cx="30240" cy="5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06840" y="48150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0648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7660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862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76600" y="5013360"/>
              <a:ext cx="1339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60800" y="48150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608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3056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4024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30560" y="5013360"/>
              <a:ext cx="1339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15120" y="481500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476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848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08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84880" y="5013360"/>
              <a:ext cx="114624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75400" y="481500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754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6960" y="4815000"/>
              <a:ext cx="28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7064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46960" y="5013360"/>
              <a:ext cx="853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46960" y="481500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66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672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0896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16720" y="5013360"/>
              <a:ext cx="112248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36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760" y="479916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760" y="481500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6220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600" y="479916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76600" y="481500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16520" y="4799160"/>
              <a:ext cx="140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0560" y="479916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0560" y="481500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7048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84880" y="479916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4880" y="481500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1120" y="479916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46960" y="479916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46960" y="481500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00880" y="479916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16720" y="479916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16720" y="481500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53920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836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6220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16520" y="4815000"/>
              <a:ext cx="140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7048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31120" y="4815000"/>
              <a:ext cx="158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00880" y="4815000"/>
              <a:ext cx="158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3920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3880" y="537228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780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95680" y="5375160"/>
              <a:ext cx="67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Geschich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636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319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06840" y="537228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0648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7660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60800" y="537228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6044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05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4024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15120" y="537228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1476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48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08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75400" y="537228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504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6960" y="537228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7064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46960" y="537228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4660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1672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5089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836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220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6520" y="5372280"/>
              <a:ext cx="140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048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31120" y="537228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00880" y="537228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53920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3880" y="554508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8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4240" y="5548320"/>
              <a:ext cx="64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Ökonom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300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319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06840" y="55450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0648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7660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862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0800" y="55450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6044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305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4024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15120" y="554508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476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848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08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75400" y="554508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7504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46960" y="554508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7064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46960" y="554508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466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1672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5089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836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220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16520" y="554508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048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1120" y="55450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00880" y="55450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920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3880" y="571824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780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5320" y="5721480"/>
              <a:ext cx="120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Politik/Gesellsch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9196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319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06840" y="57182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0648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7660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862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0800" y="57182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6044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05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4024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5120" y="571824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476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48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08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75400" y="571824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7504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6960" y="571824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7064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46960" y="571824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4660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672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5089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836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6220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16520" y="5718240"/>
              <a:ext cx="140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7048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31120" y="571824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00880" y="571824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53920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880" y="589104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780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94600" y="58942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Re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4596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319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06840" y="589104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0648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7660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862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0800" y="589104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044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305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4024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5120" y="589104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476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848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008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75400" y="589104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7504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6960" y="589104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7064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46960" y="589104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4660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672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5089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836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6220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16520" y="589104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7048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31120" y="589104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00880" y="589104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53920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3880" y="6080040"/>
              <a:ext cx="2008080" cy="18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1400" y="6083280"/>
              <a:ext cx="1665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Propleme konstitutive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3880" y="626760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0320" y="62690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Rationalitä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98320" y="626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31960" y="608004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6840" y="6080040"/>
              <a:ext cx="12794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0648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7660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8628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6600" y="6280200"/>
              <a:ext cx="1339920" cy="171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60800" y="6080040"/>
              <a:ext cx="12794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6080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3056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4024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30560" y="6280200"/>
              <a:ext cx="1339920" cy="171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15120" y="6080040"/>
              <a:ext cx="108576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1476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38488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0088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84880" y="6280200"/>
            <a:ext cx="114624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75400" y="6080040"/>
            <a:ext cx="795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75400" y="6083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46960" y="6080040"/>
            <a:ext cx="284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7064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46960" y="6280200"/>
            <a:ext cx="85392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46960" y="6080040"/>
            <a:ext cx="106200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46600" y="6083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1672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50896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16720" y="6280200"/>
            <a:ext cx="112248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2760" y="6064200"/>
            <a:ext cx="21794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2760" y="6080040"/>
            <a:ext cx="21794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220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76600" y="6064200"/>
            <a:ext cx="1339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6080040"/>
            <a:ext cx="1339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16520" y="606420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30560" y="6064200"/>
            <a:ext cx="1339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30560" y="6080040"/>
            <a:ext cx="1339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7048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84880" y="6064200"/>
            <a:ext cx="11462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84880" y="6080040"/>
            <a:ext cx="11462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31120" y="606420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46960" y="6064200"/>
            <a:ext cx="853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46960" y="6080040"/>
            <a:ext cx="853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00880" y="606420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416720" y="6064200"/>
            <a:ext cx="112248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16720" y="6080040"/>
            <a:ext cx="112248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53920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6220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16520" y="6080040"/>
            <a:ext cx="140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7048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31120" y="6080040"/>
            <a:ext cx="158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00880" y="6080040"/>
            <a:ext cx="158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53920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3880" y="6451560"/>
            <a:ext cx="200808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780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3880" y="645336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1732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319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6840" y="6451560"/>
            <a:ext cx="1279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0648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7660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862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60800" y="6451560"/>
            <a:ext cx="1279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6044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305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4024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15120" y="6451560"/>
            <a:ext cx="10857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1476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848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008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5400" y="6451560"/>
            <a:ext cx="7952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7504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46960" y="6451560"/>
            <a:ext cx="28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7064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46960" y="6451560"/>
            <a:ext cx="106200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44660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1672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089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836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6220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16520" y="6451560"/>
            <a:ext cx="140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7048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31120" y="6451560"/>
            <a:ext cx="158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00880" y="6451560"/>
            <a:ext cx="158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53920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3880" y="6626160"/>
            <a:ext cx="200808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78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93520" y="66279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110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319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06840" y="6626160"/>
            <a:ext cx="1279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0648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7660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862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60800" y="6626160"/>
            <a:ext cx="1279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6044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05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4024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15120" y="6626160"/>
            <a:ext cx="108576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476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848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008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75400" y="6626160"/>
            <a:ext cx="795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7504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546960" y="6626160"/>
            <a:ext cx="28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7064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46960" y="6626160"/>
            <a:ext cx="106200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66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1672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5089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6280" y="6797520"/>
            <a:ext cx="219240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36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36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2760" y="6799320"/>
            <a:ext cx="21794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68680" y="6797520"/>
            <a:ext cx="13539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6220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2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76600" y="6799320"/>
            <a:ext cx="1339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22640" y="6797520"/>
            <a:ext cx="13557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16520" y="6626160"/>
            <a:ext cx="140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16520" y="6799320"/>
            <a:ext cx="140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0560" y="6799320"/>
            <a:ext cx="1339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78400" y="6797520"/>
            <a:ext cx="11606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7048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7048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84880" y="6799320"/>
            <a:ext cx="11462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539040" y="6797520"/>
            <a:ext cx="8697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31120" y="6626160"/>
            <a:ext cx="158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31120" y="6799320"/>
            <a:ext cx="158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546960" y="6799320"/>
            <a:ext cx="853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08800" y="6797520"/>
            <a:ext cx="11383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400880" y="6626160"/>
            <a:ext cx="158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00880" y="6799320"/>
            <a:ext cx="158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16720" y="6799320"/>
            <a:ext cx="112248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53920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539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539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7800" y="6813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E96-EFEC-49BB-827B-D46B6926CD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AFA0-B3A5-41E7-AF09-8793F57587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57200" y="990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Von Fachinhalten zu fachlichen Kompetenzen Nationale Bildungs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19810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greifen die Grundprinzipien des jeweiligen Unterrichtsfaches 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schreiben die fachbezogenen Kompetenzen einschließlich zugrunde liegender Wissensbestände, die Schülerinnen und Schüler bis zu einem bestimmten Zeitpunkt ihres Bildungsganges erreicht haben so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zielen auf systematisches und vernetztes Lernen und folgen so dem Prinzip des kumulativen Kompetenzerwer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schreiben erwartete Leistungen im Rahmen von Anforderungsbere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ziehen sich auf den Kernbereich des jeweiligen Faches und geben den Schulen Gestaltungsräume für ihre pädagogische Arb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weisen ein mittleres Anforderungsniveau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044-AF17-448B-8C37-E9AB6FAED67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102C8-D5C3-4D12-A21D-8FFBB5D733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09480" y="123336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16002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ienen der Schul- und Unterrichts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erpflichten die Schulen einerseits zur Rechenschaftslegung über ihre 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möglichen andererseits aber auch zugleich mehr Eigenverantwortung der Schu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önnen zur Verbesserung der Leistungsfähigkeit der Schulen beit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fordern allerdings auch alle an Schule Beteiligten dazu auf, die Einhaltung der Standards über individuelle Förderung zu ermögl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9E7-C5A1-4C5C-8CC8-DCCF9412BD1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832FF-F207-4D45-9FC6-43B74356B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371600" y="2057400"/>
            <a:ext cx="6400800" cy="411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76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" y="2422440"/>
            <a:ext cx="853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9480" y="1066680"/>
            <a:ext cx="802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Nationale Bildungsstandards fü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Mathematik: Allgemeine Kompetenz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52680" y="3505320"/>
            <a:ext cx="2514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37560" y="3800520"/>
            <a:ext cx="25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seinandersetzung 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thematischen In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10240" y="220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obl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ö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440" y="260352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dell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0560" y="4584600"/>
            <a:ext cx="155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r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erwe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95800" y="5025960"/>
            <a:ext cx="266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mit symbolischen, for-malen und technischen Elementen der Mathe-matik umg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28280" y="4584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ommuniz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14200" y="2666880"/>
            <a:ext cx="14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rgumen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39F-32A1-4795-BC01-95BA6F87487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3DF52-2B75-4A5C-9C86-7021B36148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533520" y="1066680"/>
            <a:ext cx="80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für Mathematik: Allgemeine Kompetenz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3060720"/>
            <a:ext cx="8382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orgegebene und selbst formulierte Probleme bearbeit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geeignete heuristische Hilfsmittel, Strategien und Prinzipien zum Problemlösen auswählen und anwend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Plausibilität der Ergebnisse überprüfen sowie das Finden von Lösungsideen und die Lösungswege reflekt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0200" y="243828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(K 2) Probleme mathematisch lö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5E0-886A-492F-8588-53928B4D086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D74F2-B6FB-42D1-BACB-31D3401BCF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57200" y="10666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 Mathematik: Leitid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7200" y="3565440"/>
            <a:ext cx="8381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aum un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unktionaler 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aten und Zu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2362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e Leitidee vereinigt Inhalte verschiedener mathematischer Sachgebiete und durchzieht ein mathematisches Curriculum spiralförmig.</a:t>
            </a:r>
            <a:r>
              <a:rPr b="0" i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499-ED5B-410B-8174-B45E90F8215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C16B6-113D-4383-AEB4-3EBE49E4B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609480" y="106668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ist neu an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1828800"/>
            <a:ext cx="86104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lare, verbindliche Anforderungen innerhalb eines schulformübergreifenden Rahmenkonz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reiraum für schulinterne Lehr-/Lern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kussierung auf zentrale, langfristig aufgebaute Lernergeb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Statt Lernzielkatalog: Kompetenz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= systematisches, fachdidaktisch verankertes Konzept von Kompetenzstu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perationalisierung durch Aufgaben un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Qualitätssicherung durch Über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E55-9D15-4D15-BCFC-976CC3FD105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9F7A7-1DD2-4E34-8719-5888FE0802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33520" y="11430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, Normierung und Überprüfung der Bildungsstandards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2590920"/>
            <a:ext cx="84582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aufgaben des IQB (KMK,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 inhaltlich weiterzuentwickeln, methodisch zu präzisieren und ihre Erreichung durch deutsche Schülerinnen und Schüler zu überprü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stellen großer Aufgabensamm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ntwicklung von Kompetenzmodell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urchführung empirischer Studien zur Standardnormierung und Über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Schulen zum Zwecke der internen 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CC5-E0A6-48AE-854C-F99D2DC554D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B0A2D-B8C6-4757-A00B-FBCEA909D4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57200" y="169056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n Län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" y="2390760"/>
            <a:ext cx="84582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rdination der Aufgaben des IQB mit den Initiativen der Länder zur Qualitäts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stausch von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Klärung von Fragen, inwieweit die Überprüfung nationaler Bildungsstandards in die Länderprogramme integriert werden k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706-1045-4C19-A6BB-457EB5F6538A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F9C2A-6559-4C0C-B49A-45B647E2B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415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70160"/>
            <a:ext cx="8458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er Stein des Anstoßes: TIMSS und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rundbildung und berufliche Karr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Struktur des Kerncurriculums: Modi der Weltbegegnung und Basis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onkretisierung, Normierung und Überprüfung durch das IQ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Chancen für die Schul- und Unterrichts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Zusammenfass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952-013C-4DD5-BA64-47C9AAE86C1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00B19-74F0-430B-BAE0-85C8792B7E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457200" y="1309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Weitere Koope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" y="2033640"/>
            <a:ext cx="84582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m Deutschen PISA-Konsortium zur Überprüfung und Weiterentwicklung der Bildungs-standards im Bereich Mathematik für den mittleren Abschlu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r DESI-Gruppe zur Überprüfung und Weiterentwicklung der Bildungsstandards im Bereich Deutsch und erste Fremdsprache für den mittleren 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r IGLU-Gruppe zur Überprüfung und Weiterentwicklung der Bildungsstandards im Bereich Deutsch und Mathematik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741-16A8-4A6E-90A7-F357A006028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C1EFF-6A19-470C-9D05-A66E4811A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45720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Entwicklung technologiebasierter Test- und Evaluationssy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2209680"/>
            <a:ext cx="845820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Ausgangspunkt: Immense Kosten der flächendeckenden Evaluation mit Papier-und-Bleistift-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Langfristiges Ziel: Umstellung auf computerbasierte Testungen und Rückmeld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richtung einer C3/W2-Professur für pädagogische Diagnostik mit dem Schwerpunkt technologiebasiertes Assessment un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Verdana"/>
              </a:rPr>
              <a:t>Entwicklung intelligenter Aufgaben, insbesondere zur Erfassung sprachproduktiver Kompeten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Verdana"/>
              </a:rPr>
              <a:t>Netzbasiertes Testen und netzbasierte 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8AB-EACA-4DAB-BEBE-10799EF1E65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B33C-1317-4784-A816-CE9D2B482C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80880" y="126360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Bildungsstandards und Qualitätsentwick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2117880"/>
            <a:ext cx="83818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dürfen nicht die pädagogische Verantwortung für Lehren und Fördern, Fordern und Bewerten aufh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sind nur dann nützlich, wenn sie professionelles Arbeiten in der Schule voranbr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iele von Bildungsstandards sind die Unterrichts-, Personal- und Organisationsentwicklung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iag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änderung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EEE-FD46-4382-8767-1013A76E2EF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841CF-791D-4920-924A-79A63A57FF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7200" y="1339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Schul- 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0880" y="2665440"/>
            <a:ext cx="84582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Lehrplanentwicklung: Standards und Kerncurri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Verbesserung des Unterrichts und diagnostischer Lehrer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rgänzende Informationen zur Schullaufbahnberatung der El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D9F-C59C-4496-9234-C3200F193FCF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CCF52-63C2-456F-B249-4301763ABE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Lehrplanentwicklung: Standards und Kerncurric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880" y="2346480"/>
            <a:ext cx="8458200" cy="38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sind output-orientiert und beschreiben, über welche Kompetenzen Schüler zu bestimmten Zeitpunkten verfügen so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curricula sind input-orientiert, d.h. sie bestimmen die Auswahl der Inhalte und Themen und die Gestaltung von Lehr-/Lernproz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n Schnittbereich von Kerncurricula und Standards bilden die Leitideen und Kompetenzmod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unehmende Umgestaltung von Lehrplänen zu Kerncurri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curricula geben Hinweise, wie die Standards im Unterricht zu erreichen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E96-33D9-4DAC-970E-17A7A55570B9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94290-084E-45FD-8C4D-2B6F2C87D3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Standards und Kerncurricula als Orientierungshil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2346480"/>
            <a:ext cx="8458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und Kerncurricula bieten den Referenzrahmen, der schulische Arbeit anregen, unterstützen, orientieren und normier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2D5-A50A-4830-8EB5-C8BAB1174EE9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95CB1-DE49-436C-B379-D12B5CD38B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57200" y="1386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514600"/>
            <a:ext cx="84582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der Einzelschule mit einheitlichen, bundeslandübergreifenden Standards (</a:t>
            </a:r>
            <a:r>
              <a:rPr b="1" i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nchmarking</a:t>
            </a: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ücksichtigung von Einzugsgebiet und Klassen-zusammensetzung; Vergleich mit ähnlichen Klassen und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teilung der Schülerinnen und Schüler in Fächern und Teilgebieten auf Kompetenz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mit Parallelklassen; Identifikation von Stärken und Schw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e im zeitlichen Verlauf (Trendanal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590-5068-4B52-BDF1-5445DD9755C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7FA41-1AE5-4960-9B38-AB712D8AFE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7200" y="1386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esserung des Unterrichts und diagnostischer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880" y="2514600"/>
            <a:ext cx="84582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regungen zur Kooperation und fachdidaktischen Disk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ädagogische Impulse für den Unterricht, z. B. Diskussion der Standards, Beurteilungspraxis, Unterrichtsgestalt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hdidaktische Impulse; Suche nach Gründen für abweichende Fehlermuster; Etablierung von Förder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7D4-532F-4FFD-A10A-F79896661F6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6C29F-6A74-4F29-9F0A-101AA88A80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457200" y="1386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Ergänzende Informationen zur Schullaufbahnbera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2514600"/>
            <a:ext cx="84582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bjektive, klassen- und schulübergreifende Zusatzinformation des Leistungsst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rgänzt die Übergangsempfehlung, kann bei der Beratung der Eltern hel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ber: als zentrale Entscheidungsgrundlage ungeeignet, nur ergänzender Ch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A9A-828B-4C2C-96F4-22F74C93C18B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5B0BB-791F-4A02-BFEE-7E077B38B8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57200" y="3138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33B-00CD-4A59-967E-097BEC42D8A3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48AC7-5E30-4A05-A64D-108FBBACFE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049480"/>
            <a:ext cx="845820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mathematisch-naturwissenschaftlichen Leistungen in Deutschland liegen unter den durchschnittlichen Leistungen der meisten Nachbar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sbesondere bei der Anwendung mathematisch-naturwissenschaftlicher Kenntnisse auf alltagsnahe Probleme sind deutliche Defizite erkenn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 erheblicher Prozentsatz der Schüler erreicht nicht das für einen erfolgreichen Übergang in die berufliche Erstausbildung notwendige Niveau mathematisch-naturwissenschaftlicher Grundbildung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twa 30 Prozent der Schülerinnen und Schüler am Ende der Sekundarstufe II verbleiben auf einem einfachen Niveau des mathematisch-naturwissenschaftlichen Denkens und verfehlen damit ein niedrig definiertes Sockelnive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0280" y="130968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erste Stein des Anstoßes: TI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15E-8610-414C-B18B-694CB9DEF9C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7BA13-EF89-4F85-A1BD-59A0A191EC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457200" y="130968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ussta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" y="1886040"/>
            <a:ext cx="845820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ollständige Finanzierung durch die Lä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60 % Personal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ca. 10 Wissenschaftlerstellen, davon 4 abgeordnete Lehrkräf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3-4 nicht-wissenschaftliche 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plus Doktoranden und stud. Hilfskraf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Politische Koordination mit den Ländern durch das Sekretariat der KM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40 % Programm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ufträge für externe Institutionen und Expertengru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Einkaufen von Test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Unterstützung bei der Entwicklung technologiebasierter Testsyst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Empirische Untersuchungen zur Standardnorm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B47-A3EC-4625-94C6-396BE60CD774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FE36A-94E0-4B35-B5D2-BF3CE486B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457200" y="1582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ufbau internationaler Koope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2421000"/>
            <a:ext cx="84582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ducational Testing Service in Princeton, N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 Assessment of Eucational Progress (NA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Koordinierung mit den österreichischen Aktivitä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bindung der neuseeländischen Aktivitäten zum technologiebasierten Testen (John Hatti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16F-7112-4F18-9B10-8C28EA8A940D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29110-7936-4505-A189-E11457B823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492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Standardsicherung als Aspekt der Qualitätsentwicklung im Bildungswes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nach F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762120" y="2698920"/>
          <a:ext cx="7391160" cy="40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98920"/>
                    <a:ext cx="7391160" cy="40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6C5-30A9-4AF7-BA6F-8F2404A44EDB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A5F0F-682E-49C4-A00F-6A4A527F83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6240" y="1938240"/>
            <a:ext cx="8458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Leseleistungen deutscher Schülerinnen und Schüler liegen unter dem Mittelwert der OECD-Mitglieds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Abstand zwischen leistungsschwachen und -starken Schülern ist in keinem Land so groß wie in Deutschl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Anteil sehr leseschwacher 15jähriger liegt bei über 20 Proz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utsche Schülerinnen und Schüler sind in der internationalen Spitzengruppe unterrepräsentie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Arbeiterkinder haben deutlich geringere Chancen das Gymnasium zu besuchen als Akademikerki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 Deutschland ist die Leistungsdiskrepanz zwischen zugewanderten und einheimischen 15jährigen größer als in den anderen OECD-Lä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3960" y="1198440"/>
            <a:ext cx="74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zweite Stein des Anstoßes: PISA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994-8FC0-44C3-AFA6-C59208470B0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9CDCC-4E82-4E5A-B19A-8A502F4827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28520" y="1263600"/>
            <a:ext cx="66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erwarten wir vom erfolgre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Lerner (OECD-Framework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480" y="2317680"/>
            <a:ext cx="80330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Lesekompeten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Mathematische Grund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Naturwissenschaftliche Grund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ächerübergreifende 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067280"/>
            <a:ext cx="8261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rundphilosophie der OE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Diese Basiskompetenzen sind notwendig zur befriedigenden Lebensführung in persönlicher und wirtschaftlicher Hinsicht und für eine aktive Teilnahme am gesellschaftlichen Le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Hinreichende Kompetenzen in diesen vier Domänen tragen zur gelingenden Lebensbewältigung im jungen Erwachsenenalter bei und bilden die Basis für kontinuierliches Weiterlernen über die Lebensspan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1CD-EFCC-4A20-B05B-619E69B1C3C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85C39-EB35-496E-8779-953185572B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0024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276200"/>
            <a:ext cx="7772400" cy="4515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13716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Die Bedeutung von Basis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für berufliche Karr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Befunde aus der Intern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Adult Literacy Study (I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559-9124-4674-A926-EDC69FE3AF0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4CA03-6C55-4715-B928-6F4E12970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413080"/>
            <a:ext cx="7848720" cy="448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0666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ahrscheinlichkeit der Zugehörigkeit zu einer Beschäf-tigungskategorie im Produktionsbereich in Abhängigkeit von der Lesekompetenz zwischen 1994 und 1998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4EC-7EFF-4AC7-9E7F-0E2C37A504C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11DA-A883-4601-8197-5410BF9493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93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ugehörigkeit zu den oberen 60% der Gehaltsgruppen nach Kompetenzstufen im Leseverständnis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 der mathematischen Grundbild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043000"/>
          <a:ext cx="769644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43000"/>
                    <a:ext cx="7696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57466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rläuterungen</a:t>
            </a:r>
            <a:r>
              <a:rPr b="1" lang="de-DE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: Prose: Leseverständnis (Prosa-Texte), Document (Sachtexte, kontinuierlich und diskontinuierlich; Quantitative: mathematische Grundbildung; Datengrundlage </a:t>
            </a:r>
            <a:r>
              <a:rPr b="1" lang="de-DE" sz="1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International Adult Literacy Survey</a:t>
            </a:r>
            <a:r>
              <a:rPr b="1" lang="de-DE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 (vgl. Statistics Canada, 20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16B-D9A5-4D94-8A19-085BDB0C13D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5597A-5D4D-49D6-8FDA-1B2A82CCD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61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ahrscheinlichkeit einer hochqualifizierten Tätigkeit im Dienstleistungsbereich (Transport und Kommunikation) in Abhängigkeit vom Bildungsabschluss und von der Lesekompet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9880" y="2438280"/>
          <a:ext cx="8610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38280"/>
                    <a:ext cx="8610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1FF-7507-45FC-A19B-2C5C145C7BC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D53EE-543A-440F-8C0A-C510E0727C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9:24:59Z</dcterms:created>
  <dc:creator>ofkoelle</dc:creator>
  <dc:description/>
  <dc:language>en-US</dc:language>
  <cp:lastModifiedBy>steffensu</cp:lastModifiedBy>
  <cp:lastPrinted>2004-12-06T11:27:56Z</cp:lastPrinted>
  <dcterms:modified xsi:type="dcterms:W3CDTF">2004-12-22T07:25:35Z</dcterms:modified>
  <cp:revision>59</cp:revision>
  <dc:subject/>
  <dc:title>PowerPoint-Präsentation</dc:title>
</cp:coreProperties>
</file>