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891-26E3-46ED-B40C-F59E4774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216000"/>
            <a:ext cx="5256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DFE-A6A3-4EA8-9190-24E1F2BA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216000"/>
            <a:ext cx="5256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0A8-EE20-4D3A-B90C-9CCD184B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216000"/>
            <a:ext cx="5256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B2E-0D28-4CA3-8C56-F2B866E7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216000"/>
            <a:ext cx="5256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7DAA-9B31-421A-9952-995C4E68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216000"/>
            <a:ext cx="5256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61B-DC6A-4CF2-9E4E-A5615E87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216000"/>
            <a:ext cx="5256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6398-104E-48F8-86BC-1FA1E90B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216000"/>
            <a:ext cx="5256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CBBA-A5F0-4430-8016-281AF435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260280"/>
            <a:ext cx="525600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6A16-2DCB-466B-AFB4-F6542183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216000"/>
            <a:ext cx="5256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D5AE-2A01-4003-B1FA-9A4B3867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216000"/>
            <a:ext cx="5256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AD05-A5C3-4FA2-B20B-F1F1DE79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216000"/>
            <a:ext cx="5256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550C-4AE2-4585-8A53-D20FF226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df"/>
            </a:gs>
            <a:gs pos="50000">
              <a:srgbClr val="ffffef"/>
            </a:gs>
            <a:gs pos="100000">
              <a:srgbClr val="ffed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5256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solidFill>
              <a:srgbClr val="fe960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06A8-EF83-4778-BB83-61F66A95E50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df"/>
            </a:gs>
            <a:gs pos="100000">
              <a:srgbClr val="ffffe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520" y="508464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5700"/>
                </a:solidFill>
                <a:latin typeface="Comic Sans MS"/>
              </a:rPr>
              <a:t>KOMPETENZEN UND EINSTELLUNGEN</a:t>
            </a:r>
            <a:br>
              <a:rPr sz="2000"/>
            </a:br>
            <a:r>
              <a:rPr b="1" lang="en-US" sz="2000" spc="-1" strike="noStrike">
                <a:solidFill>
                  <a:srgbClr val="cc5700"/>
                </a:solidFill>
                <a:latin typeface="Comic Sans MS"/>
              </a:rPr>
              <a:t>VON SCHÜLERINNEN UND SCHÜL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6560" y="777960"/>
            <a:ext cx="5041800" cy="40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df"/>
            </a:gs>
            <a:gs pos="50000">
              <a:srgbClr val="ffffef"/>
            </a:gs>
            <a:gs pos="100000">
              <a:srgbClr val="ffed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200" y="260280"/>
            <a:ext cx="6626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lage und Durchführung von K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36000" cy="4608720"/>
          </a:xfrm>
          <a:prstGeom prst="rect">
            <a:avLst/>
          </a:prstGeom>
          <a:noFill/>
          <a:ln w="25560">
            <a:solidFill>
              <a:srgbClr val="fe960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inn von Erkenntnissen ü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rnstände am Ende der Grundschulzeit in den Fäc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hemat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chunterricht (Naturwissenscha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utsch (Lesen, Rechtschreiben, Texte verfas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lisch (Hörverste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dingungs- und Kontextfaktoren schulischer Leistung anhand v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ülermerkma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ternmerkma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terrichtsmerkma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ulischen Rahmenbeding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38920" y="6454800"/>
            <a:ext cx="2413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t: Wilfried B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4560" y="906480"/>
            <a:ext cx="6301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iel der Untersuch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23200" y="189000"/>
            <a:ext cx="16128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df"/>
            </a:gs>
            <a:gs pos="50000">
              <a:srgbClr val="ffffef"/>
            </a:gs>
            <a:gs pos="100000">
              <a:srgbClr val="ffed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200" y="260280"/>
            <a:ext cx="6626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lage und Durchführung von K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36000" cy="4608720"/>
          </a:xfrm>
          <a:prstGeom prst="rect">
            <a:avLst/>
          </a:prstGeom>
          <a:noFill/>
          <a:ln w="25560">
            <a:solidFill>
              <a:srgbClr val="fe960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istungstests mit und Befragung v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. 14.000 Schülerinnen und Schülern in den vierten Klassen aller Hamburger Grundschulen (ausgenommen Förderschu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ragung v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tern der getesteten Schülerinnen und Schü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hlehrkräften der getesteten Schülerinnen und Schüler (Deutsch, Sachkunde und Mathemati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ulleitungen der Hamburger Grundschu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38920" y="6454800"/>
            <a:ext cx="2413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t: Wilfried B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4560" y="906480"/>
            <a:ext cx="6301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fbau und Umf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23200" y="189000"/>
            <a:ext cx="16128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df"/>
            </a:gs>
            <a:gs pos="50000">
              <a:srgbClr val="ffffef"/>
            </a:gs>
            <a:gs pos="100000">
              <a:srgbClr val="ffed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200" y="260280"/>
            <a:ext cx="6626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lage und Durchführung von K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36000" cy="4608720"/>
          </a:xfrm>
          <a:prstGeom prst="rect">
            <a:avLst/>
          </a:prstGeom>
          <a:noFill/>
          <a:ln w="25560">
            <a:solidFill>
              <a:srgbClr val="fe960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 200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nerhe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 - Oktober 200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naufbere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 November 200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wertung der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20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gebnisrückmeldungen an die Einzelschu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er 20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öffentlichung des Abschlussberich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38920" y="6454800"/>
            <a:ext cx="2413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t: Wilfried B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4560" y="906480"/>
            <a:ext cx="6301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eit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423200" y="189000"/>
            <a:ext cx="16128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df"/>
            </a:gs>
            <a:gs pos="50000">
              <a:srgbClr val="ffffef"/>
            </a:gs>
            <a:gs pos="100000">
              <a:srgbClr val="ffed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6200" y="260280"/>
            <a:ext cx="6626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lage und Durchführung von K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6838920" y="6454800"/>
            <a:ext cx="2413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t: Wilfried B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4560" y="906480"/>
            <a:ext cx="6301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ingesetzte Instru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423200" y="189000"/>
            <a:ext cx="16128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153280" cy="4695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95640" y="537372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3 Rotation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95640" y="486900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3 Rotation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566100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3 Rotation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95640" y="321300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3 Rotation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5640" y="50990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3 Rotation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95640" y="43070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3 Rotation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df"/>
            </a:gs>
            <a:gs pos="50000">
              <a:srgbClr val="ffffef"/>
            </a:gs>
            <a:gs pos="100000">
              <a:srgbClr val="ffed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6200" y="260280"/>
            <a:ext cx="6626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lage und Durchführung von K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6838920" y="6454800"/>
            <a:ext cx="2413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t: Wilfried B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4560" y="906480"/>
            <a:ext cx="6301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kalen im Schüler- und Elternfragebogen (Auswah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423200" y="189000"/>
            <a:ext cx="16128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25560">
            <a:solidFill>
              <a:srgbClr val="fe960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ülerfrageb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stellungen zu und Erleben von Schule und Unterrich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rach- und Lesegewohnheit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lebtes Erziehungsverhalten der Elter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motivation, prosoziale Motiva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eizeitverhalt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takte mit Gleichaltrig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ternfrageb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rach- und Lesegewohnheit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ltureller Hintergru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bildung und Berufsausüb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ziehungsverhalt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df"/>
            </a:gs>
            <a:gs pos="50000">
              <a:srgbClr val="ffffef"/>
            </a:gs>
            <a:gs pos="100000">
              <a:srgbClr val="ffed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6200" y="260280"/>
            <a:ext cx="6626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lage und Durchführung von K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6838920" y="6454800"/>
            <a:ext cx="2413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t: Wilfried B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4560" y="906480"/>
            <a:ext cx="68169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kalen im Lehrer- und Schulleiterfragebogen (Auswah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423200" y="189000"/>
            <a:ext cx="16128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25560">
            <a:solidFill>
              <a:srgbClr val="fe960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hrerfrageb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tivitäten im Unterric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saufgab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peration in der Sch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astung im Lehrerber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stellungen zu Sprache, Mathematik, Naturwissenschaf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ulleiterfrageb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stattung der Sch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peration mit dem Kolleg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ulentwicklu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setzung amtlicher Vorg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ulstand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df"/>
            </a:gs>
            <a:gs pos="50000">
              <a:srgbClr val="ffffef"/>
            </a:gs>
            <a:gs pos="100000">
              <a:srgbClr val="ffed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6200" y="260280"/>
            <a:ext cx="6626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lage und Durchführung von K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6838920" y="6454800"/>
            <a:ext cx="2413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t: Wilfried B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4560" y="906480"/>
            <a:ext cx="6301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rhebungsdesign der Hintergrundmerk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423200" y="189000"/>
            <a:ext cx="16128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8360" y="1708200"/>
            <a:ext cx="81360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df"/>
            </a:gs>
            <a:gs pos="50000">
              <a:srgbClr val="ffffef"/>
            </a:gs>
            <a:gs pos="100000">
              <a:srgbClr val="ffed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6200" y="260280"/>
            <a:ext cx="6626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lage und Durchführung von K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36000" cy="4608720"/>
          </a:xfrm>
          <a:prstGeom prst="rect">
            <a:avLst/>
          </a:prstGeom>
          <a:noFill/>
          <a:ln w="25560">
            <a:solidFill>
              <a:srgbClr val="fe960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ist geplant, KESS als Längsschnittstudie fortzuführen. Daher sollen weitere Erhebungen in den Klassenstufen 6, 8 und 10 fol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Anbindung der Berliner Studie ‚ELEMENT‘ soll die Möglichkeit des Metropolenvergleichs bi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ch den Einsatz von Aufgaben aus anderen Untersuchungen bietet sich die Möglichkeit des Vergleichs und der Anbindung an die Studi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e Grundschul-Lese-Untersuchung‘ (IGL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kte der Lernausgangslage und Lernentwicklung - Jahrgangsstufe 5‘ (LAU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kt Lesen und Schreiben für alle‘ (PLU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38920" y="6454800"/>
            <a:ext cx="2413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t: Wilfried B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4560" y="906480"/>
            <a:ext cx="6301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sb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423200" y="189000"/>
            <a:ext cx="16128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08:45:03Z</dcterms:created>
  <dc:creator>studiglu</dc:creator>
  <dc:description/>
  <dc:language>en-US</dc:language>
  <cp:lastModifiedBy>Dr. Jan Poerschke</cp:lastModifiedBy>
  <cp:lastPrinted>2003-10-22T22:32:09Z</cp:lastPrinted>
  <dcterms:modified xsi:type="dcterms:W3CDTF">2004-12-13T16:19:57Z</dcterms:modified>
  <cp:revision>195</cp:revision>
  <dc:subject/>
  <dc:title>Folie 1</dc:title>
</cp:coreProperties>
</file>