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4845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3E0B-0559-4272-A898-CF01AB030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52624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000" y="4608360"/>
            <a:ext cx="52624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CE58-03A7-40B4-8146-29E5323BD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348000" y="4608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44760" y="4608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310E-DAD6-4DD2-ADAF-E71630746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7120" y="3573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06600" y="3573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348000" y="4608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127120" y="4608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06600" y="4608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C04B-CB10-4BEF-9CBC-CAA765595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348000" y="3573360"/>
            <a:ext cx="5262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52624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4000" y="1371600"/>
            <a:ext cx="792612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48000" y="4608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348000" y="3573360"/>
            <a:ext cx="5262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1D44-9238-4A65-A09F-42E302993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760" y="4608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48000" y="4608360"/>
            <a:ext cx="52624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52624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8000" y="4608360"/>
            <a:ext cx="52624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348000" y="4608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044760" y="4608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27120" y="3573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06600" y="3573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348000" y="4608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5127120" y="4608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906600" y="4608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52624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31C4-6A25-43EE-BD54-CFE6BF220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4594-E87B-4196-9B73-511F8C8F1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B4E9-F493-4E44-8237-18B02ED22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4000" y="1371600"/>
            <a:ext cx="792612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3286-4EE2-41DB-8B0C-5D7E4F33B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348000" y="4608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2AFA-75E6-4912-A707-DDBA85D63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44760" y="4608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504F-7DBF-4C9D-A504-D58FB2E0D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48000" y="4608360"/>
            <a:ext cx="52624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7CF0-E4FB-4843-B0D2-CF699430F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7640" y="981000"/>
            <a:ext cx="67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2060640"/>
            <a:ext cx="6770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49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4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4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4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83280" y="6381360"/>
            <a:ext cx="1152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ADDD-EBF7-4E56-897D-791C43D41803}" type="slidenum">
              <a:rPr b="1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9360" y="47628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9360" y="119700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9360" y="191628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9360" y="263700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9360" y="335592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84000" y="6381720"/>
            <a:ext cx="6624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488360" y="111240"/>
            <a:ext cx="1476360" cy="6537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539640" y="401760"/>
            <a:ext cx="5256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Hessisches Kultusministerium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 für Qualitätsentwicklung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8820000" cy="350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3357720"/>
            <a:ext cx="2952720" cy="3527280"/>
          </a:xfrm>
          <a:custGeom>
            <a:avLst/>
            <a:gdLst/>
            <a:ahLst/>
            <a:rect l="l" t="t" r="r" b="b"/>
            <a:pathLst>
              <a:path w="1860" h="2222">
                <a:moveTo>
                  <a:pt x="0" y="0"/>
                </a:moveTo>
                <a:lnTo>
                  <a:pt x="1860" y="0"/>
                </a:lnTo>
                <a:lnTo>
                  <a:pt x="862" y="2222"/>
                </a:lnTo>
                <a:lnTo>
                  <a:pt x="0" y="2222"/>
                </a:lnTo>
                <a:lnTo>
                  <a:pt x="0" y="0"/>
                </a:lnTo>
                <a:close/>
              </a:path>
            </a:pathLst>
          </a:custGeom>
          <a:solidFill>
            <a:srgbClr val="a2aac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008920" y="260280"/>
            <a:ext cx="666720" cy="857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9360" y="47628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9360" y="119700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9360" y="191628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9360" y="263700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360" y="335592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3"/>
          </p:nvPr>
        </p:nvSpPr>
        <p:spPr>
          <a:xfrm>
            <a:off x="684000" y="6381720"/>
            <a:ext cx="6624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47840" y="3382920"/>
            <a:ext cx="1892160" cy="838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401760"/>
            <a:ext cx="5256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Hessisches Kultusministerium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 für Qualitätsentwicklung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lnSpc>
                <a:spcPct val="12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336699"/>
                </a:solidFill>
                <a:latin typeface="Arial"/>
              </a:rPr>
              <a:t>Das Institut für Qualitäts-</a:t>
            </a:r>
            <a:br>
              <a:rPr sz="3400"/>
            </a:br>
            <a:r>
              <a:rPr b="1" lang="de-DE" sz="3400" spc="-1" strike="noStrike">
                <a:solidFill>
                  <a:srgbClr val="336699"/>
                </a:solidFill>
                <a:latin typeface="Arial"/>
              </a:rPr>
              <a:t>entwicklung (IQ) in Hessen</a:t>
            </a: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348000" y="3573360"/>
            <a:ext cx="5262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ufgaben, Organisation und Zie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00" y="1052640"/>
            <a:ext cx="723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rbeitseinheit 5: </a:t>
            </a:r>
            <a:br>
              <a:rPr sz="24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Modellvorhaben und Entwicklungsprojekte zur </a:t>
            </a:r>
            <a:br>
              <a:rPr sz="18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chul- und Unterrichtsentwicklung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6770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lanung, Durchführung und Auswertung von Modellvorhaben und Entwicklungsprojekt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Unterstützung des Qualitätsmanagements externer Schulentwicklungsvorhab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Unterstützung beim Transfer in landesweite Maßnahm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ratung des Hessischen Kultusministerium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24000" y="1195560"/>
            <a:ext cx="1368360" cy="2520360"/>
            <a:chOff x="324000" y="1195560"/>
            <a:chExt cx="1368360" cy="2520360"/>
          </a:xfrm>
        </p:grpSpPr>
        <p:sp>
          <p:nvSpPr>
            <p:cNvPr id="202" name=""/>
            <p:cNvSpPr/>
            <p:nvPr/>
          </p:nvSpPr>
          <p:spPr>
            <a:xfrm>
              <a:off x="324000" y="119556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4000" y="1196640"/>
              <a:ext cx="136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4000" y="263520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000" y="335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5280" y="2635200"/>
              <a:ext cx="1297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000" y="3355920"/>
              <a:ext cx="1296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A685-5AEE-433C-87AB-DF08E22651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07640" y="1052640"/>
            <a:ext cx="67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Arbeitseinheit 6: </a:t>
            </a:r>
            <a:br>
              <a:rPr sz="2800"/>
            </a:b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Untersuchungen zur Wirksamkeit von Qualifizierungs-</a:t>
            </a:r>
            <a:br>
              <a:rPr sz="1800"/>
            </a:b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maßnahme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908000" y="2204640"/>
            <a:ext cx="6770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Qualitätssicherung von akkreditierten Maßnahmen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valuation von landesweiten Personal- und Schulentwicklungsmaßnahm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ratung des Hessischen Kultusministeriums und der Staatlichen Schulämt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24000" y="1195560"/>
            <a:ext cx="1368360" cy="2520360"/>
            <a:chOff x="324000" y="1195560"/>
            <a:chExt cx="1368360" cy="2520360"/>
          </a:xfrm>
        </p:grpSpPr>
        <p:sp>
          <p:nvSpPr>
            <p:cNvPr id="213" name=""/>
            <p:cNvSpPr/>
            <p:nvPr/>
          </p:nvSpPr>
          <p:spPr>
            <a:xfrm>
              <a:off x="324000" y="119556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000" y="1196640"/>
              <a:ext cx="136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4000" y="263520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000" y="335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2635200"/>
              <a:ext cx="1297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000" y="3355920"/>
              <a:ext cx="1296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2255-3303-44FD-8735-A833DEE374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7640" y="981000"/>
            <a:ext cx="67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rvicebereiche</a:t>
            </a:r>
            <a:br>
              <a:rPr sz="28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achdidaktik und Statistische Auswertung und Evaluatio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04760" y="2060640"/>
            <a:ext cx="6770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Die Servicebereiche bieten innerbetriebliche Dienstleistungen für Querschnittsaufgaben – z.B. wird fachdidaktische Expertise sowohl bei der Arbeit an Vergleichs-, Orientierungs- und Abschlussarbeiten  benötigt als auch bei der Akkreditierung.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Gleichermaßen sind beide Abteilungen bei der Erarbeitung von Bildungsberichten und Wirkstudien auf bildungsstatistisches Know-How angewiesen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24000" y="1195560"/>
            <a:ext cx="1368360" cy="2520360"/>
            <a:chOff x="324000" y="1195560"/>
            <a:chExt cx="1368360" cy="2520360"/>
          </a:xfrm>
        </p:grpSpPr>
        <p:sp>
          <p:nvSpPr>
            <p:cNvPr id="224" name=""/>
            <p:cNvSpPr/>
            <p:nvPr/>
          </p:nvSpPr>
          <p:spPr>
            <a:xfrm>
              <a:off x="324000" y="119556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4000" y="1196640"/>
              <a:ext cx="136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4000" y="263520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4000" y="335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5280" y="2635200"/>
              <a:ext cx="1297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99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4000" y="3355920"/>
              <a:ext cx="1296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e02b00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B7DB-C872-43C9-B961-FB34549D81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99"/>
                </a:solidFill>
                <a:latin typeface="Arial"/>
              </a:rPr>
              <a:t>Vielen Dank für Ihre Aufmerksamkeit.</a:t>
            </a: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883640" y="638172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1420-CAA0-40AB-A9EF-BB041F43DA45}" type="slidenum">
              <a:rPr b="1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0920" y="1989000"/>
            <a:ext cx="3097440" cy="719280"/>
          </a:xfrm>
          <a:prstGeom prst="rect">
            <a:avLst/>
          </a:prstGeom>
          <a:gradFill rotWithShape="0">
            <a:gsLst>
              <a:gs pos="0">
                <a:srgbClr val="336699">
                  <a:alpha val="47058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336699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ufgabe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2920" y="2924280"/>
            <a:ext cx="3097080" cy="718920"/>
          </a:xfrm>
          <a:prstGeom prst="rect">
            <a:avLst/>
          </a:prstGeom>
          <a:gradFill rotWithShape="0">
            <a:gsLst>
              <a:gs pos="0">
                <a:srgbClr val="336699">
                  <a:alpha val="47058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336699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rganigram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3860640"/>
            <a:ext cx="3097080" cy="719280"/>
          </a:xfrm>
          <a:prstGeom prst="rect">
            <a:avLst/>
          </a:prstGeom>
          <a:gradFill rotWithShape="0">
            <a:gsLst>
              <a:gs pos="0">
                <a:srgbClr val="336699">
                  <a:alpha val="47058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336699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rbeitseinheite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4797360"/>
            <a:ext cx="3097440" cy="719280"/>
          </a:xfrm>
          <a:prstGeom prst="rect">
            <a:avLst/>
          </a:prstGeom>
          <a:gradFill rotWithShape="0">
            <a:gsLst>
              <a:gs pos="0">
                <a:srgbClr val="336699">
                  <a:alpha val="47058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336699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rvicebereich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7640" y="981000"/>
            <a:ext cx="67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liederung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602C-668D-42C3-BB6D-D6BAA2FC07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24000" y="1195560"/>
            <a:ext cx="1368360" cy="2520360"/>
            <a:chOff x="324000" y="1195560"/>
            <a:chExt cx="1368360" cy="2520360"/>
          </a:xfrm>
        </p:grpSpPr>
        <p:sp>
          <p:nvSpPr>
            <p:cNvPr id="106" name=""/>
            <p:cNvSpPr/>
            <p:nvPr/>
          </p:nvSpPr>
          <p:spPr>
            <a:xfrm>
              <a:off x="324000" y="119556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00" y="1196640"/>
              <a:ext cx="136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00" y="263520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00" y="335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280" y="2635200"/>
              <a:ext cx="1297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00" y="3355920"/>
              <a:ext cx="1296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04760" y="2060640"/>
            <a:ext cx="6770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Unterstützung des Hessischen Kultusministeriums 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i Entwicklung, Einsatz und Auswertung landesweiter Instrumente und Verfahren zur Qualitätssicheru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rstellung von Recherchen und Analysen zum hessischen Schulwes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uswertung von Schulleistungsstudien sowie der Schul- und Unterrichtsforschu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e Evaluation hessischer Schulen in Zusammenarbeit mit den Staatlichen Schulämter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907640" y="981000"/>
            <a:ext cx="67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ufgaben des IQ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86E1-FC02-4172-A231-CDE3C75197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7640" y="981000"/>
            <a:ext cx="67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ufgaben des IQ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4760" y="2060640"/>
            <a:ext cx="6770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urchführung von Vorhaben zur Weiterentwicklung 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s Schulwese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kkreditierung sämtlicher Fortbildungsangebote der Träger der Lehrerbildung sowie der freien Träg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Vergabe von Leistungspunkten für Fortbildungsangebot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Untersuchungen zur Wirksamkeit von Qualifizierungsmaßnahm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24000" y="1195560"/>
            <a:ext cx="1368360" cy="2520360"/>
            <a:chOff x="324000" y="1195560"/>
            <a:chExt cx="1368360" cy="2520360"/>
          </a:xfrm>
        </p:grpSpPr>
        <p:sp>
          <p:nvSpPr>
            <p:cNvPr id="119" name=""/>
            <p:cNvSpPr/>
            <p:nvPr/>
          </p:nvSpPr>
          <p:spPr>
            <a:xfrm>
              <a:off x="324000" y="119556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4000" y="1196640"/>
              <a:ext cx="136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000" y="263520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4000" y="335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5280" y="2635200"/>
              <a:ext cx="1297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000" y="3355920"/>
              <a:ext cx="1296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1C3B-D2CD-4C01-8CED-4D2C5C1E11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7308720" cy="5661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08360" y="2637000"/>
            <a:ext cx="2592360" cy="677520"/>
          </a:xfrm>
          <a:prstGeom prst="rect">
            <a:avLst/>
          </a:prstGeom>
          <a:solidFill>
            <a:srgbClr val="ffd7cd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82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2c2c86"/>
                </a:solidFill>
                <a:latin typeface="Arial"/>
              </a:rPr>
              <a:t>Abteilung I: </a:t>
            </a:r>
            <a:br>
              <a:rPr sz="1200"/>
            </a:br>
            <a:r>
              <a:rPr b="0" lang="de-DE" sz="1200" spc="-1" strike="noStrike">
                <a:solidFill>
                  <a:srgbClr val="2c2c86"/>
                </a:solidFill>
                <a:latin typeface="Arial"/>
              </a:rPr>
              <a:t>Bildungsmonitoring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7640" y="907560"/>
            <a:ext cx="6767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Organigramm IQ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9800" y="1773360"/>
            <a:ext cx="1655640" cy="77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540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STITUTS-LEITUNG</a:t>
            </a:r>
            <a:br>
              <a:rPr sz="900"/>
            </a:b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9800" y="2637000"/>
            <a:ext cx="1655640" cy="6775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82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icebereich Fachdidaktik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9800" y="4405320"/>
            <a:ext cx="1655640" cy="6775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82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icebereich Sachbearbeitung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8360" y="1773360"/>
            <a:ext cx="1655640" cy="770760"/>
          </a:xfrm>
          <a:prstGeom prst="rect">
            <a:avLst/>
          </a:prstGeom>
          <a:solidFill>
            <a:srgbClr val="e02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540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sistenz Institutsleitung</a:t>
            </a:r>
            <a:br>
              <a:rPr sz="1200"/>
            </a:br>
            <a:br>
              <a:rPr sz="10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1773360"/>
            <a:ext cx="1655640" cy="777960"/>
          </a:xfrm>
          <a:prstGeom prst="rect">
            <a:avLst/>
          </a:prstGeom>
          <a:solidFill>
            <a:srgbClr val="e02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12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Arial"/>
              </a:rPr>
              <a:t>Haushalt, Finanzcon-trolling, Leistungs-, Angebots- und Auftragskalkulation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1773360"/>
            <a:ext cx="1656000" cy="770760"/>
          </a:xfrm>
          <a:prstGeom prst="rect">
            <a:avLst/>
          </a:prstGeom>
          <a:solidFill>
            <a:srgbClr val="e02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540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ersonal-management</a:t>
            </a:r>
            <a:br>
              <a:rPr sz="1200"/>
            </a:br>
            <a:br>
              <a:rPr sz="10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3357720"/>
            <a:ext cx="2592360" cy="11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46800" anchor="t">
            <a:spAutoFit/>
          </a:bodyPr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c86"/>
                </a:solidFill>
                <a:latin typeface="Arial"/>
              </a:rPr>
              <a:t>Arbeitseinheit 1:</a:t>
            </a:r>
            <a:r>
              <a:rPr b="1" lang="en-US" sz="12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Landesweite Orientierungs-,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ergleichs- und Abschlussarbeiten, Bildungsberichte: Analysen und Expertisen zur Schulentwicklung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in Hessen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4581360"/>
            <a:ext cx="25923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c86"/>
                </a:solidFill>
                <a:latin typeface="Arial"/>
              </a:rPr>
              <a:t>Arbeitseinheit 2: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Externe Evaluation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hessischer Schulen 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5484960"/>
            <a:ext cx="2592360" cy="1299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c86"/>
                </a:solidFill>
                <a:latin typeface="Arial"/>
              </a:rPr>
              <a:t>Arbeitseinheit 3: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Auswertung nationaler Bildungsberichte und internationaler Studien, Unterstützungsleistungen bei Planung und Durchführung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nationaler und internationaler Schulleistungsstudien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72360" y="3357720"/>
            <a:ext cx="2592360" cy="11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c86"/>
                </a:solidFill>
                <a:latin typeface="Arial"/>
              </a:rPr>
              <a:t>Arbeitseinheit 4: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Akkreditierung</a:t>
            </a:r>
            <a:br>
              <a:rPr sz="1200"/>
            </a:br>
            <a:br>
              <a:rPr sz="1100"/>
            </a:br>
            <a:br>
              <a:rPr sz="1000"/>
            </a:b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72360" y="4581360"/>
            <a:ext cx="25923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c86"/>
                </a:solidFill>
                <a:latin typeface="Arial"/>
              </a:rPr>
              <a:t>Arbeitseinheit 5: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Modellvorhaben und Entwicklungsprojekte zur Schul- und Unterrichtsentwicklung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24000" y="1195560"/>
            <a:ext cx="1368360" cy="2520360"/>
            <a:chOff x="324000" y="1195560"/>
            <a:chExt cx="1368360" cy="2520360"/>
          </a:xfrm>
        </p:grpSpPr>
        <p:sp>
          <p:nvSpPr>
            <p:cNvPr id="142" name=""/>
            <p:cNvSpPr/>
            <p:nvPr/>
          </p:nvSpPr>
          <p:spPr>
            <a:xfrm>
              <a:off x="324000" y="119556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4000" y="1196640"/>
              <a:ext cx="136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4000" y="263520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4000" y="335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5280" y="2635200"/>
              <a:ext cx="1297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00" y="3355920"/>
              <a:ext cx="1296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7883640" y="638172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D0EB-63BB-4284-902F-FCE5AC2798F5}" type="slidenum">
              <a:rPr b="1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3430440"/>
            <a:ext cx="1656000" cy="8600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82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icebereic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sche Auswertungen und Evaluation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2637000"/>
            <a:ext cx="2592360" cy="677520"/>
          </a:xfrm>
          <a:prstGeom prst="rect">
            <a:avLst/>
          </a:prstGeom>
          <a:solidFill>
            <a:srgbClr val="ffd7cd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82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c86"/>
                </a:solidFill>
                <a:latin typeface="Arial"/>
              </a:rPr>
              <a:t>Abteilung II: </a:t>
            </a:r>
            <a:br>
              <a:rPr sz="1200"/>
            </a:br>
            <a:r>
              <a:rPr b="0" lang="en-US" sz="1200" spc="-1" strike="noStrike">
                <a:solidFill>
                  <a:srgbClr val="2c2c86"/>
                </a:solidFill>
                <a:latin typeface="Arial"/>
              </a:rPr>
              <a:t>Akkreditierung, Modellvorhaben </a:t>
            </a:r>
            <a:br>
              <a:rPr sz="1200"/>
            </a:br>
            <a:r>
              <a:rPr b="0" lang="en-US" sz="1200" spc="-1" strike="noStrike">
                <a:solidFill>
                  <a:srgbClr val="2c2c86"/>
                </a:solidFill>
                <a:latin typeface="Arial"/>
              </a:rPr>
              <a:t>und Entwicklungsprojekt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5484960"/>
            <a:ext cx="2592360" cy="13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c86"/>
                </a:solidFill>
                <a:latin typeface="Arial"/>
              </a:rPr>
              <a:t>Arbeitseinheit 6: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ntersuchungen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zur Wirksamkeit von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Qualifizierungsmaßnahmen</a:t>
            </a:r>
            <a:br>
              <a:rPr sz="1200"/>
            </a:br>
            <a:br>
              <a:rPr sz="1000"/>
            </a:br>
            <a:br>
              <a:rPr sz="11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1F15-A456-46C4-8D60-010A6487DD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7640" y="1197000"/>
            <a:ext cx="67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Arbeitseinheit 1: </a:t>
            </a:r>
            <a:br>
              <a:rPr sz="2800"/>
            </a:b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Landesweite Orientierungs-, Vergleichs- und Abschluss-arbeiten; Bildungsberichte: Analysen und Expertisen zur Schulentwicklung in Hesse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04760" y="2494080"/>
            <a:ext cx="6770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Erstellung und organisatorisch-logistische Durchführu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Auswertung der Ergebniss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Mitwirkung an der länderübergreifenden Entwicklung der Bildungsstandard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Lehrplanarbei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Erarbeitung von Analysen, Expertisen und Handlungs-empfehlungen zum hessischen Schulwes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24000" y="1197000"/>
            <a:ext cx="1368360" cy="2521080"/>
            <a:chOff x="324000" y="1197000"/>
            <a:chExt cx="1368360" cy="2521080"/>
          </a:xfrm>
        </p:grpSpPr>
        <p:sp>
          <p:nvSpPr>
            <p:cNvPr id="157" name=""/>
            <p:cNvSpPr/>
            <p:nvPr/>
          </p:nvSpPr>
          <p:spPr>
            <a:xfrm>
              <a:off x="324000" y="1197000"/>
              <a:ext cx="1368360" cy="36036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00" y="1198440"/>
              <a:ext cx="13683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00" y="1917720"/>
              <a:ext cx="1368360" cy="36036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00" y="2637000"/>
              <a:ext cx="1368360" cy="36036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4000" y="3357720"/>
              <a:ext cx="1368360" cy="36036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1917720"/>
              <a:ext cx="1368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5280" y="2637000"/>
              <a:ext cx="12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000" y="3357720"/>
              <a:ext cx="129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5150-96BB-4ECA-8F9C-B64F161F7D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7640" y="981000"/>
            <a:ext cx="67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rbeitseinheit 2: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Externe Evaluation hessischer Schulen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24000" y="1195560"/>
            <a:ext cx="1368360" cy="2520360"/>
            <a:chOff x="324000" y="1195560"/>
            <a:chExt cx="1368360" cy="2520360"/>
          </a:xfrm>
        </p:grpSpPr>
        <p:sp>
          <p:nvSpPr>
            <p:cNvPr id="167" name=""/>
            <p:cNvSpPr/>
            <p:nvPr/>
          </p:nvSpPr>
          <p:spPr>
            <a:xfrm>
              <a:off x="324000" y="119556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4000" y="1196640"/>
              <a:ext cx="136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4000" y="263520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4000" y="335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5280" y="2635200"/>
              <a:ext cx="1297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000" y="3355920"/>
              <a:ext cx="1296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04760" y="2204640"/>
            <a:ext cx="67705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itwirkung bei Konzeption und Pilotphase für die externe Evalu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lächendeckende Implementierung nach landesweit einheitlichen Vorgab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Koordination der Schulevalu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andesweite, regionale und schulformspezifische Auswertung der Evaluationsergebniss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2133720"/>
            <a:ext cx="677052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C993-D8B4-403A-A6E5-15F3EB034E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8000" y="1197000"/>
            <a:ext cx="6912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Arbeitseinheit 3:</a:t>
            </a:r>
            <a:r>
              <a:rPr b="1" lang="de-DE" sz="20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uswertung nationaler Bildungsberichte und internationaler Studien, Unterstützungsleistungen bei Planung und Durch-führung nationaler und internationaler Schulleistungsstudie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24000" y="1195560"/>
            <a:ext cx="1368360" cy="2520360"/>
            <a:chOff x="324000" y="1195560"/>
            <a:chExt cx="1368360" cy="2520360"/>
          </a:xfrm>
        </p:grpSpPr>
        <p:sp>
          <p:nvSpPr>
            <p:cNvPr id="179" name=""/>
            <p:cNvSpPr/>
            <p:nvPr/>
          </p:nvSpPr>
          <p:spPr>
            <a:xfrm>
              <a:off x="324000" y="119556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4000" y="1196640"/>
              <a:ext cx="136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000" y="263520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4000" y="335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5280" y="2635200"/>
              <a:ext cx="1297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4000" y="3355920"/>
              <a:ext cx="1296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77840" y="2494080"/>
            <a:ext cx="6770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uswertung nationaler Bildungsberichte und internationaler Studi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kundäranalysen und Recherchen zur Schul- und Unterrichtsforschu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Unterstützungsleistungen bei der Planung und Durchführung von Schulleistungsstudi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ratung des Hessischen Kultusministerium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4BE6-3366-4A8C-986C-431F823725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7640" y="907560"/>
            <a:ext cx="6767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rbeitseinheit 4: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kkreditierung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04760" y="2060640"/>
            <a:ext cx="6770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kkreditierung freier Träg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kkreditierung von Fortbildungsmaßnahm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Vergabe von Leistungspunkt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Qualitätssicheru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4000" y="1197000"/>
            <a:ext cx="1368360" cy="2521080"/>
            <a:chOff x="324000" y="1197000"/>
            <a:chExt cx="1368360" cy="2521080"/>
          </a:xfrm>
        </p:grpSpPr>
        <p:sp>
          <p:nvSpPr>
            <p:cNvPr id="191" name=""/>
            <p:cNvSpPr/>
            <p:nvPr/>
          </p:nvSpPr>
          <p:spPr>
            <a:xfrm>
              <a:off x="324000" y="1197000"/>
              <a:ext cx="1368360" cy="36036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00" y="1198440"/>
              <a:ext cx="13683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000" y="1917720"/>
              <a:ext cx="1368360" cy="36036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4000" y="2637000"/>
              <a:ext cx="1368360" cy="36036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4000" y="3357720"/>
              <a:ext cx="1368360" cy="36036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000" y="1917720"/>
              <a:ext cx="1368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5280" y="2637000"/>
              <a:ext cx="12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000" y="3357720"/>
              <a:ext cx="129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0772-7716-4B88-9CB7-DB7798C88E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9:55:58Z</dcterms:created>
  <dc:creator>Kerstin Rheingans</dc:creator>
  <dc:description/>
  <dc:language>en-US</dc:language>
  <cp:lastModifiedBy>steffensu</cp:lastModifiedBy>
  <dcterms:modified xsi:type="dcterms:W3CDTF">2004-12-14T10:12:56Z</dcterms:modified>
  <cp:revision>191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61527414</vt:r8>
  </property>
  <property fmtid="{D5CDD505-2E9C-101B-9397-08002B2CF9AE}" pid="3" name="_AuthorEmail">
    <vt:lpwstr>a.goerisch@help.hessen.de</vt:lpwstr>
  </property>
  <property fmtid="{D5CDD505-2E9C-101B-9397-08002B2CF9AE}" pid="4" name="_AuthorEmailDisplayName">
    <vt:lpwstr>Goerisch, Axel</vt:lpwstr>
  </property>
  <property fmtid="{D5CDD505-2E9C-101B-9397-08002B2CF9AE}" pid="5" name="_EmailSubject">
    <vt:lpwstr>Papiere für Soest</vt:lpwstr>
  </property>
  <property fmtid="{D5CDD505-2E9C-101B-9397-08002B2CF9AE}" pid="6" name="_PreviousAdHocReviewCycleID">
    <vt:r8>-182017574</vt:r8>
  </property>
  <property fmtid="{D5CDD505-2E9C-101B-9397-08002B2CF9AE}" pid="7" name="_ReviewingToolsShownOnce">
    <vt:lpwstr/>
  </property>
</Properties>
</file>