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0B2-85D1-40D4-BB26-D24A4995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22E-641A-4623-99A6-23B7199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ECC-26E1-4F08-9F28-23CDA275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B10-2F96-430C-9B93-2CB8063C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D05-7DC5-4883-9C3A-536E6E42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A85-45E0-4B87-92FB-4A61DDED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6DB-540A-4573-AD1C-05DC6A4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A1-8A56-45E5-804B-104DE5E9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CF-BA29-4277-B0C3-B543803F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9C4-BDFC-4CD9-8B0A-B6CA746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AE-32F2-4D87-9B55-DF2A1F5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755-D1F0-4296-8265-96F57D3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4C6F-9A90-4911-AD8B-B78D4F71E584}" type="datetime">
              <a:rPr b="1" lang="de-DE" sz="1200" spc="-1" strike="noStrike">
                <a:solidFill>
                  <a:srgbClr val="000099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5152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&lt;footer&gt;</a:t>
            </a: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Lunchtime, Bertelsmann-Stif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527-D2AB-4228-8E72-683A29C385C2}" type="slidenum">
              <a:rPr b="1" lang="de-DE" sz="12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24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816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52280"/>
          <a:ext cx="226692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22669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286000" y="228600"/>
            <a:ext cx="556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Institut zur Qualitätsentwicklung im Bildungswesen (IQ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Verdana"/>
              </a:rPr>
              <a:t>Wissenschaftliche Einrichtung der Länder in der Bundesrepublik Deutschland</a:t>
            </a: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967520" y="0"/>
            <a:ext cx="947880" cy="947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16280"/>
            <a:ext cx="8942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e Rolle nationaler Bildungsstandards für die Qualitätssicherung und -entwicklung in deutschen Schul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rof. Dr. Olaf Kö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stitut zur Qualitätsentwicklung 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8D4-6716-4348-9818-696D10C5D85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DE0A1-2995-45E2-9A75-497432725F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0666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im Fach Mathematik, mittlerer Abschluss: Leitideen und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637000"/>
            <a:ext cx="3311280" cy="27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  <a:ea typeface="Times New Roman"/>
              </a:rPr>
              <a:t>Leitid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aum un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unktionaler Zusammen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aten und Zu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637000"/>
            <a:ext cx="49690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  <a:ea typeface="Times New Roman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Problemlö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s Modell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e Darstellungen verw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kommuniz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thematisch argumen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it symbolischen, formalen und technischen Elementen der Mathematik um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04C-D98D-46A0-8974-C7C11FBDC97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5F9B7-4B91-4132-8754-FDA2865DA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96000" y="1719360"/>
            <a:ext cx="424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99"/>
                </a:solidFill>
                <a:uFillTx/>
                <a:latin typeface="Verdana"/>
              </a:rPr>
              <a:t>benötigte Kompetenz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Problemlös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Weg zurechtlegen, Hilfen heranzie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Modellier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Mathematisieren, Interpreti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Darstell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Übersetzen Geo/Al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Technisch arbeit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Rechnen, ggfs. Pythago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Verdana"/>
              </a:rPr>
              <a:t>Kommunizieren </a:t>
            </a:r>
            <a:r>
              <a:rPr b="0" lang="de-DE" sz="1600" spc="-1" strike="noStrike">
                <a:solidFill>
                  <a:srgbClr val="ff0066"/>
                </a:solidFill>
                <a:latin typeface="Verdana"/>
              </a:rPr>
              <a:t>(Lesen, Darle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93760" y="1808280"/>
            <a:ext cx="1860480" cy="225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4183200"/>
            <a:ext cx="4537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Viele Autofahrer benutzen für die Fahrt von A nach B nicht die stark befahrenen Hauptstraßen, sondern einen „Schleich-weg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Äußere dich, ob die Abkürzung eine Zeit-ersparnis bringt, wenn man auf dem „Schleichweg“ durchschnittlich mit 30 km/h und auf den Hauptstraßen durchschnittlich mit 50 km/h fahren kan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1825560"/>
            <a:ext cx="0" cy="224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938160"/>
            <a:ext cx="882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Ein Beispiel für eine kompetenzorientierte 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F5B-438B-4007-BDF2-4DEA22A8D67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6EEE2-C17E-45A5-8D8C-85689E430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341440" y="-5520600"/>
            <a:ext cx="73080" cy="109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ie Katheten in einem rechtwinkligen Dreieck sind 3 cm und 5 cm lang. Berechne die Länge der Hypotenu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005360"/>
            <a:ext cx="727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Verdana"/>
              </a:rPr>
              <a:t>benötigte  Kompetenz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Verdana"/>
              </a:rPr>
              <a:t>Technisch arbeiten (Rechnen, ggfs. Pythago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Verdana"/>
              </a:rPr>
              <a:t>Kommunizieren (Lesen, Darstel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5C5-F5C0-4CA4-B2E3-5C68D6DF70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D6CDF-6EBF-4C16-B5A8-E055A8EE3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51280" y="1700280"/>
            <a:ext cx="5292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mm an, dass man auf dem Schleichw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it durchschnittlich 3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Wie hoch darf die Durchschnittsgeschwi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digkeit auf den Hauptstraßen höch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sein, wenn die Abkürzung eine Zeiters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nis bringen soll? Erstelle für diese Höch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geschwindigkeit v in Abhängigkeit von 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ine Wertetabelle und einen Grap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gründe ohne zu rechnen: Die in 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beschriebene Höchstgeschwindigkeit 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erreicht für ein gewisses u einen größ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Verdana"/>
              </a:rPr>
              <a:t>möglichen W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26920" y="2131920"/>
            <a:ext cx="2937960" cy="3455280"/>
            <a:chOff x="826920" y="2131920"/>
            <a:chExt cx="2937960" cy="3455280"/>
          </a:xfrm>
        </p:grpSpPr>
        <p:grpSp>
          <p:nvGrpSpPr>
            <p:cNvPr id="80" name=""/>
            <p:cNvGrpSpPr/>
            <p:nvPr/>
          </p:nvGrpSpPr>
          <p:grpSpPr>
            <a:xfrm>
              <a:off x="826920" y="2131920"/>
              <a:ext cx="2937960" cy="3455280"/>
              <a:chOff x="826920" y="2131920"/>
              <a:chExt cx="2937960" cy="3455280"/>
            </a:xfrm>
          </p:grpSpPr>
          <p:pic>
            <p:nvPicPr>
              <p:cNvPr id="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131920"/>
                <a:ext cx="2624040" cy="34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764880" y="2148120"/>
                <a:ext cx="0" cy="342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554200" y="3702240"/>
              <a:ext cx="4183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15640" y="3498480"/>
              <a:ext cx="41760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 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6920" y="112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14C-EFEE-461B-8EFC-31E474C3623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9FEAA-6094-455B-BC20-FDF17278EB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51280" y="17002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geben ist nebenstehender Kartenausschni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ariante I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2347920"/>
            <a:ext cx="3529080" cy="309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2708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Viele Autofahrer benutzen für die Fahrt von A nach B nicht die stark befah-renen Hauptstraßen, sondern einen „Schleichweg“ durch die Nicolaistraße und Canalettostraß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Äußere dich, ob die Abkürzung eine Zeitersparnis bringt, wenn man auf dem „Schleichweg“ durchschnittlich mit 30 km/h und auf den Hauptstraßen durchschnittlich mit 50 km/h fahr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712-A046-499D-BE5B-39695B67B4A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A2F09-B1DF-4248-A055-69BB7F619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8840" y="907920"/>
            <a:ext cx="771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 in der e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Fremdspr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913040"/>
            <a:ext cx="6931080" cy="4944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278080"/>
            <a:ext cx="3240360" cy="1871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CBB-C5FE-488C-8102-8AFCBD9D291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A7376-532E-40B2-B4AD-5614CE572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Reading Compreh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075040"/>
          <a:ext cx="757080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75040"/>
                    <a:ext cx="75708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7C7-664B-4DF8-AE51-C900926C54B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2B839-8404-454C-AE01-F7DB6A702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Reading Compreh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2103480"/>
          <a:ext cx="6186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3480"/>
                    <a:ext cx="6186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6D1-6E40-4502-9BCE-16853184C79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31472-0731-4072-BC1D-40299E88A7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981000"/>
            <a:ext cx="770400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Ein Beispiel für eine Englischaufg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(Wri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205000"/>
          <a:ext cx="25146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25146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348000" y="2193840"/>
            <a:ext cx="57960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This is a young lady on her way t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: Look at the photo. Use your ima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B: Make notes about the young lady, her 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job, her private life and her hob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C: Write a story about her using your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D: Do you envy her? Gives reasons for your 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nsw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C0D-B6AD-4213-B27D-B4184B8D079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11603-4E71-48A9-8246-24AAFB19F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1052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Stand der Standardentwicklung in der Bundesrepublik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349360"/>
          <a:ext cx="8713800" cy="3867120"/>
        </p:xfrm>
        <a:graphic>
          <a:graphicData uri="http://schemas.openxmlformats.org/drawingml/2006/table">
            <a:tbl>
              <a:tblPr/>
              <a:tblGrid>
                <a:gridCol w="2081160"/>
                <a:gridCol w="2276640"/>
                <a:gridCol w="2176560"/>
                <a:gridCol w="21794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Grundsch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ekundarstuf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4. Jahrgangsstu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ttlerer Abschlu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Hauptschul-abschlu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ut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athema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1. Fremdspra-che (Englisch/ Französ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turwissen-schaf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C32-72D4-406B-AD01-A5799F8E4CF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6D42B-03E7-40DC-AAAC-B395159AC1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7680" y="1268280"/>
            <a:ext cx="73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128680"/>
            <a:ext cx="845820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erste Stein des Anstoßes: TI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Der zweite Stein des Anstoßes: PIS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Maßnahmen zur Qualitätssicherung nach PIS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Überprüfung nationaler Bildungsstandards durch das IQ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der nationalen Bildungsstandards für die Qualitätssicherung und Unterrich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26C-34CE-4687-8E39-A8F633ED42A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33B55-715A-4D84-84DB-36CBE04D00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052640"/>
            <a:ext cx="82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Überprüfung Nationaler Bildungsstandards: Das IQB in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141720"/>
            <a:ext cx="87836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Wissenschaftliche Einrichtung der Länder in der Bundesrepublik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Vollständige Finanzierung durch die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An-Institut an der Humboldt-Universität zu 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Erste Arbeitsphase: Dezember 2004 – September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Institutsleiter (Professor für empirische Bildungsforsch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wissenschaftliche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ine EDV-K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abgeordneten Lehrkrä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6 Doktora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4 Sekretariats- und Verwaltungs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5080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Studentische Hilfskräf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0AD-1AA6-4C72-AAD7-FF7E89CE41D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CC4C8-1816-48AB-8661-51D950DD76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9700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ernaufgaben des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911240"/>
            <a:ext cx="845820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ationale Bildungsstandards inhaltlich weiter entwickeln, methodisch präzisieren und ihre Erreichung durch Schülerinnen und Schüler in Deutschland überprü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rstellen großer Aufgabensamm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urchführung empirischer Studien zur Normierung und Überprüfung der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die Länderprogramme der flächendeckenden Vergleichsarb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61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Bereitstellung von Aufgaben für Schulen zum Zwecke der internen 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5F7-6BE4-40B9-9FD1-9F9EF62D146A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C6A87-02AF-4D3C-8425-16A3201273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219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 der Standardnormierung: Mathematik in PISA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362320"/>
            <a:ext cx="8458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6 allgemeine Kompetenzen, 5 Leitid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Ziel Produktion von insgesamt 600 Aufgaben für den Feldtest, ca. 300 für den Haupttest (60 pro Leitid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orgehen: Arbeiten in vier regionalen Arbeitsgruppen (Lehrkräfte, Experten der Länder, Fachdidaktiker) und einer beratenden Aufgabenbewertungsgrup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ilotierung der Aufgaben im PISA-Feldtest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Normierung für jede Leitidee in PISA 2006 mit Hilfe von Kompetenzstufenmod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rgebnisse der Normierung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438-9119-43C7-BD3D-3162D1B1078F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34637-DBF8-4465-A6A9-DA74BAEEF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9810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Konkretisierung der Aufgabenentwicklung: 5 Sorten von Aufg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184480"/>
            <a:ext cx="8458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fgaben, die im Internet eingesehen und herunter-geladen werden können und welche die Standards illustrieren bzw. konkretis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ufgaben, die  für die Arbeit im Unterricht eingesetzt werden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das IQB für die Standardüberprüfung zurückhalt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den Ländern für deren Programme zur Qualitätssicherung zur Verfügung gestellt werden, und mit deren Hilfe sich die Länder auf den Standards verorten können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Testaufgaben, die von Schulen für interne Evaluationszwecke verwendet werden kö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17F-42ED-476B-9B80-A2B617681766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7B5D5-D1F3-43B0-82C6-A0516545E7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339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ncen für die Qualitätssicherung und Unterrichts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665440"/>
            <a:ext cx="84582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3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3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Verbesserung des Unterr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A16-9EC4-46DE-836B-C695ADE3E8C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E3EB4-D28E-442E-B1A3-3A8D17BD05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197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andsaufnahme und Standard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325600"/>
            <a:ext cx="84582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der Einzelschule mit einheitlichen, bundeslandübergreifenden Standards (</a:t>
            </a:r>
            <a:r>
              <a:rPr b="1" i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nchmarking</a:t>
            </a: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ücksichtigung von Einzugsgebiet und Klassen-zusammensetzung; Vergleich mit ähnlichen Klassen und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teilung der Schülerinnen und Schüler in Fächern und Teilgebieten auf Kompetenz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 mit Parallelklassen; Identifikation von Stärken und Schw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gleiche im zeitlichen Verlauf (Trendanal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C35-3A9F-4BB3-9D29-44696DCFC19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267BE-B2E1-4B9C-A634-05EA62A53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386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esserung des Unterric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349360"/>
            <a:ext cx="84582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reitstellung von kommentierten Aufgaben für den Unterr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Pädagogische Impulse für die Unterrichtsgest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regungen zur Kooperation und fachdidaktischen Disk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5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tablierung von Förder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3E3-5923-434D-8DF7-A032D904DD99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9A0D-BB7D-4952-B981-188BF2FE9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622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EFD-9B5F-4C89-A4E7-F3414F59D62C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1CB9E-9D17-437D-B3C3-899B83B74D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049480"/>
            <a:ext cx="845820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Die mathematisch-naturwissenschaftlichen Leistungen in Deutschland liegen unter den durchschnittlichen Leistungen der meisten Nachbarstaat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Insbesondere bei der Anwendung mathematisch-naturwissenschaftlicher Kenntnisse auf alltagsnahe Probleme sind deutliche Defizite erkenn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in erheblicher Prozentsatz der Schüler erreicht nicht das für einen erfolgreichen Übergang in die berufliche Erstausbildung notwendige Niveau mathematisch-naturwissenschaftlicher Grundbildung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Etwa 30 Prozent der Schülerinnen und Schüler am Ende der Sekundarstufe II verbleiben auf einem einfachen Niveau des mathematisch-naturwissenschaftlichen Denkens und verfehlen damit ein niedrig definiertes Sockelnive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440" y="1309680"/>
            <a:ext cx="65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er erste Stein des Anstoßes: TI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045-94EC-4A33-AA94-A006B1505AC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87025-2ECD-4ACE-9336-509092392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907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Repetition und Passivität anstelle von Verständnisorientierung in der gymnasialen Oberstufe im Mathematikunterricht (aus TI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060640"/>
          <a:ext cx="80773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0640"/>
                    <a:ext cx="80773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2FB-D1C7-4D23-A2F1-C5213D8F6EC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5335E-695D-401C-918A-540AC5BF6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08360" y="2309760"/>
            <a:ext cx="70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Der zweite Stein des Anstoß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ISA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753-3BC4-4D2C-9219-0FA3C9504BE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3DFC0-4AE4-418D-ACC5-620BB2D20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009800"/>
            <a:ext cx="807264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1280" y="2014560"/>
            <a:ext cx="367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Mittlere Leseleis-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tungen in PISA E</a:t>
            </a:r>
            <a:br>
              <a:rPr sz="2800"/>
            </a:br>
            <a:r>
              <a:rPr b="1" lang="de-DE" sz="2800" spc="-1" strike="noStrike">
                <a:solidFill>
                  <a:srgbClr val="000099"/>
                </a:solidFill>
                <a:latin typeface="Verdana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77E-9C13-41A6-98F3-A5A3CED73B4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C8F7E-DA1E-40CC-AF66-06F150F62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2070000"/>
            <a:ext cx="83707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Definition von Handlungsfeldern/strategischen Zielen in den 16 Ländern der Bundesrepublik Deutsch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usbau der Initiativen in den Ländern zum Bildungsmonitoring und zur Schul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Schulinsp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Flächendeckende Vergleichsarbeiten in der Grundschule (z.B. VERA in sieben Bundesländ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20952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Flächendeckende Vergleichsarbeiten in der Sekundarstufe I (z. B. NRW, Bay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inführung zentraler Abschlussprüf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ntwicklung von Nationalen Bildungsstandards und Einrichtung eines wissenschaftlichen Instituts der Länder, das die Standards weiterentwickeln, normieren und überprüfen so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5264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Maßnahmen in Deutschland zur Qualitätssicherung nach 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9CE-89DC-4476-9B36-D27A27DC32D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5833C-A3F5-49E5-B723-F3BD136ED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771640" y="2448000"/>
          <a:ext cx="30322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48000"/>
                    <a:ext cx="30322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24000" y="9810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Von Fachinhalten zu fachlichen Kompet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Nationale Bildungs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522520"/>
            <a:ext cx="82296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beschreiben die fachbezogenen Kompetenzen, die Schülerinnen und Schüler bis zu einem bestimmten Zeitpunkt ihres Bildungsganges erreicht haben so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beziehen sich auf den Kernbereich des jeweiligen F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zielen auf systematisches und vernetztes Lernen und folgen so dem Prinzip des kumulativen Kompetenz-erwe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sind output-orientiert (performance stand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C07-BAE4-4BB2-BEC1-CAB956956B0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128EF-EA75-4CDC-9D00-FB8289D88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319040"/>
            <a:ext cx="80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Was ist neu an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081160"/>
            <a:ext cx="86104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nforderungen innerhalb eines schulformüber-greifenden Rahmenkonz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kussierung auf zentrale, langfristig aufgebaute Lernergeb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Verbindliche Kriterien für alle 16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perationalisierung durch Aufgaben un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Statt Lernzielkatalog: Kompetenz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Qualitätssicherung durch Über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F3A-34B6-4B01-9635-EE7F1539F77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63B3C-9C71-42F6-8960-80DB25356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9:24:59Z</dcterms:created>
  <dc:creator>ofkoelle</dc:creator>
  <dc:description/>
  <dc:language>en-US</dc:language>
  <cp:lastModifiedBy>IQB</cp:lastModifiedBy>
  <cp:lastPrinted>2004-12-06T11:27:56Z</cp:lastPrinted>
  <dcterms:modified xsi:type="dcterms:W3CDTF">2005-12-22T10:00:45Z</dcterms:modified>
  <cp:revision>150</cp:revision>
  <dc:subject/>
  <dc:title>PowerPoint-Präsentation</dc:title>
</cp:coreProperties>
</file>