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4BD13-5BA9-4223-B884-4C665318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2768A-B34E-4174-A260-BE463DB9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D5FF0-D5F8-4427-B94C-D623F6A5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B2307-11EE-4A3E-A270-F3BFB3E5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4F7CF-3F9D-4282-8308-70F3F2EA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2CD39-46B7-430C-A79E-D3FF0B4E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5C3C3-3849-4387-8899-A6695C25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0AF04-5AF5-49CD-B297-377AF7DE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A6B97-478B-44E3-B6F7-746498A9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CFF88-CE9A-4988-92B4-749F8C4C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676D9-0AA6-4EDE-A0B3-0621BD07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BF629-5B6D-4DE8-8B2E-D18689E6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7380360" y="5970600"/>
            <a:ext cx="1584360" cy="69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FACC-C0F2-459A-AC18-95FAADE18F3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de-DE" sz="5400" spc="-1" strike="noStrike">
                <a:solidFill>
                  <a:srgbClr val="000000"/>
                </a:solidFill>
                <a:latin typeface="Garamond"/>
              </a:rPr>
              <a:t>Projektaufgaben, Lernaufgaben und Testaufgaben für das Fach Französisch</a:t>
            </a:r>
            <a:br>
              <a:rPr sz="5400"/>
            </a:br>
            <a:br>
              <a:rPr sz="5400"/>
            </a:b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Bernd Tesch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Institut zur Qualitätsentwicklung im Bildungswesen (IQB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Jägerstraße 10-11  10117 Berli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E-Mail: Bernd.Tesch@IQB.hu-berlin.d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Niveaustufen der zu entwickelnden Aufgaben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52760" y="1600200"/>
            <a:ext cx="1647720" cy="2185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671480" y="3938760"/>
            <a:ext cx="1609920" cy="218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4648320" y="1600200"/>
          <a:ext cx="4038480" cy="4365720"/>
        </p:xfrm>
        <a:graphic>
          <a:graphicData uri="http://schemas.openxmlformats.org/drawingml/2006/table">
            <a:tbl>
              <a:tblPr/>
              <a:tblGrid>
                <a:gridCol w="807840"/>
                <a:gridCol w="808200"/>
                <a:gridCol w="806400"/>
                <a:gridCol w="807840"/>
                <a:gridCol w="808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kalen 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Die Kooperation mit CIEP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aramond"/>
              </a:rPr>
              <a:t>Entwicklung von Items für die Testu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aramond"/>
              </a:rPr>
              <a:t>Durchführung von Schulung zum Item-Schreiben für Aufgabenentwickler/-innen aus Deutschland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aramond"/>
              </a:rPr>
              <a:t>Bewertung von Unterrichtsaufgabe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aramond"/>
              </a:rPr>
              <a:t>Durchführung von Kodiererschulungen für produktive Aufgabe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148360" y="1557360"/>
            <a:ext cx="3811320" cy="4319640"/>
            <a:chOff x="5148360" y="1557360"/>
            <a:chExt cx="3811320" cy="431964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5148360" y="1557360"/>
              <a:ext cx="381132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 txBox="1"/>
            <p:nvPr/>
          </p:nvSpPr>
          <p:spPr>
            <a:xfrm>
              <a:off x="5148360" y="1557360"/>
              <a:ext cx="3811320" cy="431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6600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childTnLst>
                                    <p:set>
                                      <p:cBhvr>
                                        <p:cTn id="142" dur="1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Die Testchronologi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24000" y="1628640"/>
            <a:ext cx="946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213000"/>
            <a:ext cx="4608720" cy="1706760"/>
          </a:xfrm>
          <a:prstGeom prst="blockArc">
            <a:avLst>
              <a:gd name="adj1" fmla="val 8051164"/>
              <a:gd name="adj2" fmla="val 2748836"/>
              <a:gd name="adj3" fmla="val 1750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4282920"/>
            <a:ext cx="20876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2006 CI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Entwicklung von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24360" y="3789360"/>
            <a:ext cx="151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1916280"/>
            <a:ext cx="19432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2007 DPC + IQ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Pilotierung der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88000" y="4365720"/>
            <a:ext cx="201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2008 DPC+IQ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Haupttest und Normierung der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Literaturhinweis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Eckerth, Johannes (2003): Entwicklung, Einsatz und Evaluierung von Lernaufgaben – Von der Fremdsprachenforschung zur Unterrichtspraxis. Zeitschrift: GFL - German as a foreign language, 2/2003/, 1 - 28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Piepho, Hans-Eberhard (2003): Von der Übungs- und Aufgabentypologie zur Szenariendidaktik – es hat sich etwas entwickelt. In: Legutke, Schocker-v. Ditfurth (Hrsg): Kommunikativer Fremdsprachenunterricht. Rückblick nach vorn. Tübingen: Narr 2003, 59-68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Themenheft: Aufgabenorientiertes Lernen. Praxis Fremdsprachenunterricht, 4/2005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Garamond"/>
              </a:rPr>
              <a:t>Merci de votre attention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201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Überblick über die  Präsentation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Garamond"/>
              </a:rPr>
              <a:t>Die Konzeption von Unterrichts- und Testaufgabe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Beispiel einer Projektaufgabe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Überblick über die Aufgabenentwicklung konzeptionel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Überblick über die Aufgabenentwicklung personel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Garamond"/>
              </a:rPr>
              <a:t>Die Bezugsdokumente GeR und Bildungsstandard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Die Kompetenzbereiche in den Bildungsstandard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Vergleich GeR und Bildungsstandard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Projektaufgaben, Lernaufgaben und Testaufgaben im Kontext der Bildungsstandard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Niveaustufen der zu entwickelnden Aufgabe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Garamond"/>
              </a:rPr>
              <a:t>Die Zusammenarbeit mit C.I.E.P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Felder der Zusammenarbei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Die Entwicklung der Testaufgabe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childTnLst>
                                    <p:set>
                                      <p:cBhvr>
                                        <p:cTn id="6" dur="1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Projektaufgaben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Garamond"/>
              </a:rPr>
              <a:t>Standardbezogene Aufgabenbereiche: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Garamond"/>
              </a:rPr>
              <a:t>(A) Methodische und soziale Kompetenzen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Makroebene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Themenauswahl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Auswahl von Projektideen und Materialien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Auswahl eines methodischen Schwerpunkts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Ablaufplanung, Organisation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Feedback und Korrektur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Dokumentation, Präsentation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Mikroebene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Bearbeitung von formalen Teilaufgaben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Textrezeption und –produktion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Sicherung von Grammatik, Wortschatz etc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Feedback und Korrektur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Garamond"/>
              </a:rPr>
              <a:t>(B) Interkulturelle Kompetenzen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Garamond"/>
              </a:rPr>
              <a:t>(C) Kommunikative Kompetenzen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Hör-/Hörsehverstehen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Leseverstehen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Sprechen (+ Interaktion)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Schreiben (+Interaktion)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Garamond"/>
              </a:rPr>
              <a:t>Sprachmittlung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5880" y="2276640"/>
            <a:ext cx="26528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childTnLst>
                                    <p:set>
                                      <p:cBhvr>
                                        <p:cTn id="56" dur="1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/>
                                        <p:tgtEl>
                                          <p:spTgt spid="1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/>
                                        <p:tgtEl>
                                          <p:spTgt spid="1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/>
                                        <p:tgtEl>
                                          <p:spTgt spid="10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/>
                                        <p:tgtEl>
                                          <p:spTgt spid="10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/>
                                        <p:tgtEl>
                                          <p:spTgt spid="107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/>
                                        <p:tgtEl>
                                          <p:spTgt spid="10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/>
                                        <p:tgtEl>
                                          <p:spTgt spid="107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/>
                                        <p:tgtEl>
                                          <p:spTgt spid="107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/>
                                        <p:tgtEl>
                                          <p:spTgt spid="107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Projektaufgaben und Testaufgaben im Kontext von GeR und Bildungsstandards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1773360"/>
            <a:ext cx="7345440" cy="4248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11640" y="2421000"/>
            <a:ext cx="3529080" cy="309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estaufg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Allgemeine Kompetenz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Eingeschränk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ethodenkompeten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b) Kommunikative Kompetenz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örverste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Leseverste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ündliche Produk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chriftliche Produk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63840" y="2781360"/>
            <a:ext cx="200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7120" y="2781360"/>
            <a:ext cx="2324160" cy="27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Garamond"/>
              </a:rPr>
              <a:t>Projektaufg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Garamond"/>
              </a:rPr>
              <a:t>a) Allgemeine Kompetenz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99"/>
                </a:solidFill>
                <a:latin typeface="Garamond"/>
              </a:rPr>
              <a:t>Savo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99"/>
                </a:solidFill>
                <a:latin typeface="Garamond"/>
              </a:rPr>
              <a:t>Savoir-f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99"/>
                </a:solidFill>
                <a:latin typeface="Garamond"/>
              </a:rPr>
              <a:t>Savoir-ê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99"/>
                </a:solidFill>
                <a:latin typeface="Garamond"/>
              </a:rPr>
              <a:t>Savoir-appre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Garamond"/>
              </a:rPr>
              <a:t>b) Kommunikative Kompetenz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99"/>
                </a:solidFill>
                <a:latin typeface="Garamond"/>
              </a:rPr>
              <a:t>Rez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99"/>
                </a:solidFill>
                <a:latin typeface="Garamond"/>
              </a:rPr>
              <a:t>Produktion (+Interak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99"/>
                </a:solidFill>
                <a:latin typeface="Garamond"/>
              </a:rPr>
              <a:t>Sprachmitt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71840" y="2482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234936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Garamond"/>
              </a:rPr>
              <a:t>← </a:t>
            </a:r>
            <a:r>
              <a:rPr b="1" lang="en-US" sz="1800" spc="-1" strike="noStrike">
                <a:solidFill>
                  <a:srgbClr val="009900"/>
                </a:solidFill>
                <a:latin typeface="Garamond"/>
              </a:rPr>
              <a:t>Lernaufgaben </a:t>
            </a:r>
            <a:r>
              <a:rPr b="1" lang="en-US" sz="2400" spc="-1" strike="noStrike">
                <a:solidFill>
                  <a:srgbClr val="009900"/>
                </a:solidFill>
                <a:latin typeface="Garamond"/>
              </a:rPr>
              <a:t>→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8604000" cy="581796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3080" cy="345744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4000" y="5589720"/>
            <a:ext cx="1439640" cy="1028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195640" y="6021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Verdana"/>
              </a:rPr>
              <a:t>Die Entwicklung der Aufgaben für den Unterr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581040"/>
            <a:ext cx="734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0920" y="260280"/>
            <a:ext cx="852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0000"/>
                </a:solidFill>
                <a:uFillTx/>
                <a:latin typeface="Verdana"/>
              </a:rPr>
              <a:t>Nationale Bildungsstandards für Hauptschul- und Mittleren Abschluss (KMK, 2003,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6408720" cy="498780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236000" y="1125360"/>
            <a:ext cx="1618920" cy="2186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236000" y="3500280"/>
            <a:ext cx="1616040" cy="21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92120" y="455760"/>
            <a:ext cx="815976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Garamond"/>
              </a:rPr>
              <a:t>Kompetenzbereiche in GeR und BS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55640" y="1268280"/>
          <a:ext cx="7848720" cy="5329440"/>
        </p:xfrm>
        <a:graphic>
          <a:graphicData uri="http://schemas.openxmlformats.org/drawingml/2006/table">
            <a:tbl>
              <a:tblPr/>
              <a:tblGrid>
                <a:gridCol w="3963960"/>
                <a:gridCol w="3884760"/>
              </a:tblGrid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 Allgemeine Kompeten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6600ff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klaratives Wissen (savoi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terkulturelle Kompeten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6600ff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ertigkeiten und prozedurales Wissen (savoir-fai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terkulturelle Kompeten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ethodische Kompeten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6600ff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ersönlichkeitsbezogene Kompetenz (savoir-êt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6600ff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ernfähigkeit (savoir-apprend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6600ff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ethodische Kompeten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. Kommunikative Sprachkompeten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unktionale kommunikative Kompeten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6600ff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inguistische Kompeten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6600ff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ommunikative Fertigkei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6600ff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erfügung über die sprachlichen Mit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6600ff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oziolinguistische Kompeten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6600ff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agmatische Kompeten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1:26:51Z</dcterms:created>
  <dc:creator>teschber</dc:creator>
  <dc:description/>
  <dc:language>en-US</dc:language>
  <cp:lastModifiedBy>Mitarbeiter</cp:lastModifiedBy>
  <dcterms:modified xsi:type="dcterms:W3CDTF">2005-12-21T17:30:48Z</dcterms:modified>
  <cp:revision>45</cp:revision>
  <dc:subject/>
  <dc:title>Lernaufgaben und Testaufgaben für das Fach Französisch</dc:title>
</cp:coreProperties>
</file>