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2473-635C-427E-881C-D8D872F4C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8B99-F555-4142-80CF-5FF23032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D1A9-04B7-45DE-9A62-49BFAB7FE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EE94-9768-4BBD-A284-9C0AABF64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3919-BB1B-49D0-A6CC-CCE11831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7A6E-52BE-4C46-BAB3-F202C48A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C974-C6FC-4BF6-9E2A-ADF22F60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6754-831C-4D27-9DCF-44F397B9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47E2-BE18-4C3C-97B5-999A8444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EBEF-5941-4AB3-BBE8-7CFD6F8B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78C3-898C-46E8-81E7-DCF6358C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C72E-FDD3-4768-9250-5496A31B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625B-5F85-472F-B81A-C67264A1D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62120" y="5165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574560" y="533520"/>
            <a:ext cx="293076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24000" y="2205000"/>
            <a:ext cx="856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c2435"/>
                </a:solidFill>
                <a:latin typeface="Verdana"/>
              </a:rPr>
              <a:t>Implementation und Testung von Bildungsstandar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c2435"/>
                </a:solidFill>
                <a:latin typeface="Verdana"/>
              </a:rPr>
              <a:t>Ihre Bedeutung in einer Gesamtstrategie der Qualitätssicherung und Steigerung im Bildungs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c2435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747680" y="5070600"/>
            <a:ext cx="4083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c2435"/>
                </a:solidFill>
                <a:latin typeface="Verdana"/>
              </a:rPr>
              <a:t>Olaf Kö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c2435"/>
                </a:solidFill>
                <a:latin typeface="Verdana"/>
              </a:rPr>
              <a:t>Institut zur Qualitätsentwick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c2435"/>
                </a:solidFill>
                <a:latin typeface="Verdana"/>
              </a:rPr>
              <a:t>im Bildungswe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Verdana"/>
              </a:rPr>
              <a:t>iqboffice@iqb.hu-berlin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Verdana"/>
              </a:rPr>
              <a:t>www.iqb.hu-berlin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62120" y="5238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74560" y="533520"/>
            <a:ext cx="293076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4000" y="1844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2435"/>
                </a:solidFill>
                <a:latin typeface="Verdana"/>
              </a:rPr>
              <a:t>Überb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2492280"/>
            <a:ext cx="8137800" cy="22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30000"/>
              </a:lnSpc>
              <a:spcBef>
                <a:spcPts val="751"/>
              </a:spcBef>
              <a:buClr>
                <a:srgbClr val="8c24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8c2435"/>
                </a:solidFill>
                <a:latin typeface="Verdana"/>
              </a:rPr>
              <a:t>Gesamtstrategie der KMK zur Qualitätssicherung und –entwick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spcBef>
                <a:spcPts val="751"/>
              </a:spcBef>
              <a:buClr>
                <a:srgbClr val="8c24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8c2435"/>
                </a:solidFill>
                <a:latin typeface="Verdana"/>
              </a:rPr>
              <a:t>Die Rolle nationaler Bildungsstandards in dieser Strate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spcBef>
                <a:spcPts val="751"/>
              </a:spcBef>
              <a:buClr>
                <a:srgbClr val="8c24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8c2435"/>
                </a:solidFill>
                <a:latin typeface="Verdana"/>
              </a:rPr>
              <a:t>Kompetenzorientierte Unterrichtsmaterialien als Fundament der Qualitätsentwick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-228600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086600" cy="21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90000" tIns="360000" bIns="46800" anchor="t">
            <a:spAutoFit/>
          </a:bodyPr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2435"/>
                </a:solidFill>
                <a:latin typeface="Verdana"/>
              </a:rPr>
              <a:t>Gesamtstrategie der KMK zur Qualitätssicherung u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2435"/>
                </a:solidFill>
                <a:latin typeface="Verdana"/>
              </a:rPr>
              <a:t>-entwickl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9280" y="2060640"/>
            <a:ext cx="8569440" cy="43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8c24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8c2435"/>
                </a:solidFill>
                <a:latin typeface="Verdana"/>
              </a:rPr>
              <a:t>Beteiligung an internationalen Studien (internationales Benchmark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20000"/>
              </a:lnSpc>
              <a:spcBef>
                <a:spcPts val="451"/>
              </a:spcBef>
              <a:buClr>
                <a:srgbClr val="8c2435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8c2435"/>
                </a:solidFill>
                <a:latin typeface="Verdana"/>
              </a:rPr>
              <a:t>PISA in der Sekundarstufe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20000"/>
              </a:lnSpc>
              <a:spcBef>
                <a:spcPts val="451"/>
              </a:spcBef>
              <a:buClr>
                <a:srgbClr val="8c2435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8c2435"/>
                </a:solidFill>
                <a:latin typeface="Verdana"/>
              </a:rPr>
              <a:t>PIRLS und TIMSS in der Grundsch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8c24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8c2435"/>
                </a:solidFill>
                <a:latin typeface="Verdana"/>
              </a:rPr>
              <a:t>Nationaler Vergleich (Ländervergleich) auf der Basis der länderübergreifenden Bildungsstand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20000"/>
              </a:lnSpc>
              <a:spcBef>
                <a:spcPts val="451"/>
              </a:spcBef>
              <a:buClr>
                <a:srgbClr val="8c2435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8c2435"/>
                </a:solidFill>
                <a:latin typeface="Verdana"/>
              </a:rPr>
              <a:t>Dabei internationale Verankerung soweit wie mögl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20000"/>
              </a:lnSpc>
              <a:spcBef>
                <a:spcPts val="451"/>
              </a:spcBef>
              <a:buClr>
                <a:srgbClr val="8c2435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8c2435"/>
                </a:solidFill>
                <a:latin typeface="Verdana"/>
              </a:rPr>
              <a:t>Zyklus off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8c24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8c2435"/>
                </a:solidFill>
                <a:latin typeface="Verdana"/>
              </a:rPr>
              <a:t>Flächendeckende Vergleichsarbeiten zum Zwecke der intermediären Feststellung von Leistungsständen; Anbindung an die Bildungsstandards o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-228600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-324000" y="0"/>
            <a:ext cx="7560000" cy="16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90000" tIns="360000" bIns="46800" anchor="t">
            <a:spAutoFit/>
          </a:bodyPr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2435"/>
                </a:solidFill>
                <a:latin typeface="Verdana"/>
              </a:rPr>
              <a:t>Warum Ländervergleiche auf der Basis der Bildungsstandard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9280" y="2060640"/>
            <a:ext cx="8569440" cy="43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8c24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8c2435"/>
                </a:solidFill>
                <a:latin typeface="Verdana"/>
              </a:rPr>
              <a:t>Bildungsstandards stellen in allen Ländern verbindliche Leistungserwartungen im Primar- und Sekundarschulsystem d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8c24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8c2435"/>
                </a:solidFill>
                <a:latin typeface="Verdana"/>
              </a:rPr>
              <a:t>Bildungsstandards gehen hinsichtlich der berücksichtigten Fächer und Skills über die internationalen Programme hin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8c24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8c2435"/>
                </a:solidFill>
                <a:latin typeface="Verdana"/>
              </a:rPr>
              <a:t>Für die Überprüfung der Bildungsstandards werden große Mengen testtheoretisch hochwertiger Aufgaben entwickelt und piloti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8c24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8c2435"/>
                </a:solidFill>
                <a:latin typeface="Verdana"/>
              </a:rPr>
              <a:t>Die Entwicklung kompetenzorientierter Aufgaben für den Unterricht im Sinne der Bildungsstandards erlaubt die direkte Verknüpfung von Unterricht und Tes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-228600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-324000" y="0"/>
            <a:ext cx="7560000" cy="16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90000" tIns="360000" bIns="46800" anchor="t">
            <a:spAutoFit/>
          </a:bodyPr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2435"/>
                </a:solidFill>
                <a:latin typeface="Verdana"/>
              </a:rPr>
              <a:t>Überblick über die weiteren Präsentati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79280" y="2060640"/>
            <a:ext cx="8569440" cy="27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8c24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8c2435"/>
                </a:solidFill>
                <a:latin typeface="Verdana"/>
              </a:rPr>
              <a:t>Alexander Roppelt: Von Bildungsstandards zu kompetenzorientierten Aufgaben im Mathematikunterri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8c24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8c2435"/>
                </a:solidFill>
                <a:latin typeface="Verdana"/>
              </a:rPr>
              <a:t>Bernd Tesch: Von Bildungsstandards zu kompetenzorientierten Aufgaben im Fremdsprachenunterri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8c24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8c2435"/>
                </a:solidFill>
                <a:latin typeface="Verdana"/>
              </a:rPr>
              <a:t>Martin Mechtel: Unterstützung der Aufgabenentwicklung durch PC und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752480"/>
            <a:ext cx="327672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90000" tIns="288000" bIns="46800" anchor="t">
            <a:spAutoFit/>
          </a:bodyPr>
          <a:p>
            <a:pPr marL="18900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999999"/>
                </a:solidFill>
                <a:latin typeface="MetaBoldLF-Caps"/>
                <a:ea typeface="Arial"/>
              </a:rPr>
              <a:t>Telefon</a:t>
            </a:r>
            <a:r>
              <a:rPr b="0" lang="de-DE" sz="1100" spc="-1" strike="noStrike">
                <a:solidFill>
                  <a:srgbClr val="666666"/>
                </a:solidFill>
                <a:latin typeface="MetaBoldLF-Caps"/>
                <a:ea typeface="Arial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MetaBook-Roman"/>
                <a:ea typeface="Arial"/>
              </a:rPr>
              <a:t> +49[30]2093-533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999999"/>
                </a:solidFill>
                <a:latin typeface="MetaBoldLF-Caps"/>
                <a:ea typeface="Arial"/>
              </a:rPr>
              <a:t>Telefax</a:t>
            </a:r>
            <a:r>
              <a:rPr b="0" lang="de-DE" sz="1100" spc="-1" strike="noStrike">
                <a:solidFill>
                  <a:srgbClr val="000000"/>
                </a:solidFill>
                <a:latin typeface="MetaBoldLF-Caps"/>
                <a:ea typeface="Arial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MetaBook-Roman"/>
                <a:ea typeface="Arial"/>
              </a:rPr>
              <a:t>  +49[30]2093-533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-Roman"/>
                <a:ea typeface="Arial"/>
              </a:rPr>
              <a:t>IQBoffice@IQB.hu-berlin.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-Roman"/>
                <a:ea typeface="Times New Roman"/>
              </a:rPr>
              <a:t>www.IQB.hu-berlin.de</a:t>
            </a:r>
            <a:r>
              <a:rPr b="0" lang="de-DE" sz="1600" spc="-1" strike="noStrike">
                <a:solidFill>
                  <a:srgbClr val="000000"/>
                </a:solidFill>
                <a:latin typeface="MetaBook-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999999"/>
                </a:solidFill>
                <a:latin typeface="MetaBoldLF-Caps"/>
                <a:ea typeface="Arial"/>
              </a:rPr>
              <a:t>P</a:t>
            </a:r>
            <a:r>
              <a:rPr b="1" lang="en-US" sz="1100" spc="-1" strike="noStrike">
                <a:solidFill>
                  <a:srgbClr val="999999"/>
                </a:solidFill>
                <a:latin typeface="MetaBoldLF-Caps"/>
                <a:ea typeface="Arial"/>
              </a:rPr>
              <a:t>ostadres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-Roman"/>
                <a:ea typeface="Times New Roman"/>
              </a:rPr>
              <a:t>Humboldt-Universität zu Berl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-Roman"/>
                <a:ea typeface="Times New Roman"/>
              </a:rPr>
              <a:t>Unter den Linden 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-Roman"/>
                <a:ea typeface="Times New Roman"/>
              </a:rPr>
              <a:t>10099 Berl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999999"/>
                </a:solidFill>
                <a:latin typeface="MetaBoldLF-Caps"/>
                <a:ea typeface="Arial"/>
              </a:rPr>
              <a:t>Sit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-Roman"/>
                <a:ea typeface="Times New Roman"/>
              </a:rPr>
              <a:t>Jägerstraße 10- 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-Roman"/>
                <a:ea typeface="Times New Roman"/>
              </a:rPr>
              <a:t>10117 Berl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74560" y="533520"/>
            <a:ext cx="2930760" cy="1334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638680" y="5867280"/>
            <a:ext cx="350532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288000" tIns="288000" bIns="46800" anchor="t">
            <a:spAutoFit/>
          </a:bodyPr>
          <a:p>
            <a:pPr marL="189000">
              <a:lnSpc>
                <a:spcPct val="100000"/>
              </a:lnSpc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99999"/>
                </a:solidFill>
                <a:latin typeface="MetaBoldLF-Caps"/>
                <a:ea typeface="Arial"/>
              </a:rPr>
              <a:t>Ansprechpartner -&gt;</a:t>
            </a:r>
            <a:r>
              <a:rPr b="1" lang="en-US" sz="1100" spc="-1" strike="noStrike">
                <a:solidFill>
                  <a:srgbClr val="999999"/>
                </a:solidFill>
                <a:latin typeface="MetaBoldLF-Caps"/>
                <a:ea typeface="Arial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MetaBold-Roman"/>
                <a:ea typeface="Times New Roman"/>
              </a:rPr>
              <a:t>Prof. Dr. Olaf Köll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MetaBold-Roman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MetaBook-Roman"/>
                <a:ea typeface="Times New Roman"/>
              </a:rPr>
              <a:t>Direk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85800" y="3772080"/>
            <a:ext cx="1676520" cy="531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85800" y="3200400"/>
            <a:ext cx="2895480" cy="571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825440" y="4643280"/>
            <a:ext cx="410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2435"/>
                </a:solidFill>
                <a:latin typeface="Verdana"/>
              </a:rPr>
              <a:t>Vielen Dank fü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2435"/>
                </a:solidFill>
                <a:latin typeface="Verdana"/>
              </a:rPr>
              <a:t>Ihre Aufmerksamkei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11:27:48Z</dcterms:created>
  <dc:creator>theband</dc:creator>
  <dc:description/>
  <dc:language>en-US</dc:language>
  <cp:lastModifiedBy>IQB</cp:lastModifiedBy>
  <dcterms:modified xsi:type="dcterms:W3CDTF">2005-12-22T06:46:33Z</dcterms:modified>
  <cp:revision>15</cp:revision>
  <dc:subject/>
  <dc:title>PowerPoint-Präsentation</dc:title>
</cp:coreProperties>
</file>