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188640"/>
            <a:ext cx="712620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3542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440" y="188640"/>
            <a:ext cx="712620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3542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3542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188640"/>
            <a:ext cx="712620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3542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3542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3542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440" y="188640"/>
            <a:ext cx="712620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440" y="188640"/>
            <a:ext cx="712620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440" y="188640"/>
            <a:ext cx="712620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440" y="188640"/>
            <a:ext cx="712620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440" y="188640"/>
            <a:ext cx="712620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440" y="188640"/>
            <a:ext cx="712620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3542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440" y="188640"/>
            <a:ext cx="712620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3542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188640"/>
            <a:ext cx="712620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3542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2e2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-14400"/>
            <a:ext cx="9144000" cy="54705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88640"/>
            <a:ext cx="712620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9999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7162920" y="-12600"/>
            <a:ext cx="1954080" cy="777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2"/>
          <a:stretch/>
        </p:blipFill>
        <p:spPr>
          <a:xfrm>
            <a:off x="762120" y="502920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41" name=""/>
          <p:cNvSpPr/>
          <p:nvPr/>
        </p:nvSpPr>
        <p:spPr>
          <a:xfrm>
            <a:off x="5037120" y="4497480"/>
            <a:ext cx="3801960" cy="21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999999"/>
                </a:solidFill>
                <a:latin typeface="MetaBook-Roman"/>
              </a:rPr>
              <a:t>Unterstützung der Aufgabenentwicklung durch PC und Intern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999999"/>
                </a:solidFill>
                <a:latin typeface="MetaBook-Roman"/>
              </a:rPr>
              <a:t>Beitrag zur EMSE-Tagung 21./22.12.2005 Essling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999999"/>
                </a:solidFill>
                <a:latin typeface="MetaBook-Roman"/>
              </a:rPr>
              <a:t>Martin Mechtel - IQB-ED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3"/>
          <a:stretch/>
        </p:blipFill>
        <p:spPr>
          <a:xfrm>
            <a:off x="574560" y="533520"/>
            <a:ext cx="2930760" cy="133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2e2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440" y="188640"/>
            <a:ext cx="712620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999999"/>
                </a:solidFill>
                <a:latin typeface="Arial"/>
              </a:rPr>
              <a:t>Entwicklungsphase</a:t>
            </a: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-47880" y="1599840"/>
            <a:ext cx="548316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66"/>
                </a:solidFill>
                <a:latin typeface="Arial"/>
              </a:rPr>
              <a:t>Schreiben eines Entwurfes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bgeordnete/beauftragte Lehrer/innen, spezialisierte Fachkräfte schreiben am PC Textdateien, ggf. mit Abbildungen, Audio-Dateien, Video-Sequenzen usw.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66"/>
                </a:solidFill>
                <a:latin typeface="Arial"/>
              </a:rPr>
              <a:t>Diskussion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Fachkräfte arbeiten in Regional- oder Fachgruppen; tauschen sich hier aus und erhalten so ein gemeinsames Verständnis der Aufgabenentwicklung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66"/>
                </a:solidFill>
                <a:latin typeface="Arial"/>
              </a:rPr>
              <a:t>Bewertung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issenschaftliche Experten auf den Gebieten Fachdidaktik und pädagigische Diagnostik beurteilen und überarbeiten ggf. die Aufgaben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66"/>
                </a:solidFill>
                <a:latin typeface="Arial"/>
              </a:rPr>
              <a:t>Pilotierung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ntspricht vom Ablauf her dem Einsatz der Aufgabe im Rahmen einer Lernstandserhebung, hier jedoch mit dem Ziel, die Eigenschaften der Aufgaben zu erforsch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871960" y="1628640"/>
            <a:ext cx="3102120" cy="1067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omputer unterschiedlichster 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onfiguration; IQB: MS-Word, 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orgegebene Dokument-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orlagen mit Formularelement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867280" y="2932200"/>
            <a:ext cx="3097440" cy="1067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stausch über Email oder 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ternet-Portale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QB: ZOPE Content-Management-Frames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867280" y="4221000"/>
            <a:ext cx="3097440" cy="5806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stausch über Email oder 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ternet-Porta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2e2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440" y="188640"/>
            <a:ext cx="712620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999999"/>
                </a:solidFill>
                <a:latin typeface="Arial"/>
              </a:rPr>
              <a:t>Nutzungsphase</a:t>
            </a: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483920"/>
            <a:ext cx="77724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400"/>
              </a:spcBef>
              <a:buClr>
                <a:srgbClr val="000066"/>
              </a:buClr>
              <a:buFont typeface="Arial"/>
              <a:buChar char="•"/>
              <a:tabLst>
                <a:tab algn="r" pos="753588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66"/>
                </a:solidFill>
                <a:latin typeface="Arial"/>
              </a:rPr>
              <a:t>Voraussetzung: Itemdatenbank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Aufgaben sind mit sämtlichen Informationen in einer Datenbank gespeicher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400"/>
              </a:spcBef>
              <a:buClr>
                <a:srgbClr val="000066"/>
              </a:buClr>
              <a:buFont typeface="Arial"/>
              <a:buChar char="•"/>
              <a:tabLst>
                <a:tab algn="r" pos="753588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66"/>
                </a:solidFill>
                <a:latin typeface="Arial"/>
              </a:rPr>
              <a:t>Zugriff „Einspeicherung“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Januar 2006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Word-Dateien werden einzeln in die Datenbank übertragen, teilweise automatisiert; wichtiger Schritt: Harmonisierung des Layou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400"/>
              </a:spcBef>
              <a:buClr>
                <a:srgbClr val="000066"/>
              </a:buClr>
              <a:buFont typeface="Arial"/>
              <a:buChar char="•"/>
              <a:tabLst>
                <a:tab algn="r" pos="753588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66"/>
                </a:solidFill>
                <a:latin typeface="Arial"/>
              </a:rPr>
              <a:t>Zugriff „Vorbereitung einer Studie“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Februar 2006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ach extern vorgegebenen Eckdaten (z.B. Anzahl der Schüler, Anzahl der Aufgaben, Grunddesign) werden folgende Teilaufgaben abgearbeite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r" pos="753588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uordnung der Aufgaben zu Testheften nach Kriterien wie Kompetenz entspr. Bildungsstandards, Zeit für Lösung, Itemformat usw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r" pos="753588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ündeln der Aufgaben für Layout der Testhef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r" pos="753588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ündeln der Kodieranweisung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r" pos="753588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enerieren von Variablennamen für alle Items als Vorlage für die Erfassung der Testergebnis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r" pos="753588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tzen von Vermerken über die Nutzung der I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400"/>
              </a:spcBef>
              <a:buClr>
                <a:srgbClr val="000066"/>
              </a:buClr>
              <a:buFont typeface="Arial"/>
              <a:buChar char="•"/>
              <a:tabLst>
                <a:tab algn="r" pos="753588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66"/>
                </a:solidFill>
                <a:latin typeface="Arial"/>
              </a:rPr>
              <a:t>Zugriff „Ändern von Itemeigenschaften“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Juni 2006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sbesondere bei Studien mit Pilotcharakter, aber auch bei regulärer Nutzung von Items werden Itemeigenschaften ermittelt. Diese Werte (z.B. Schwierigkeiten, Verlinkung zu Standards, mittlere Lösungshäufigkeit) sind in die Itemdatenbank einzuspeicher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400"/>
              </a:spcBef>
              <a:buNone/>
              <a:tabLst>
                <a:tab algn="r" pos="753588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5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" dur="5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" dur="5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50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500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500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2e2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440" y="188640"/>
            <a:ext cx="712620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999999"/>
                </a:solidFill>
                <a:latin typeface="Arial"/>
              </a:rPr>
              <a:t>Blick in die Datenbank</a:t>
            </a: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539640" y="1341360"/>
          <a:ext cx="7186680" cy="421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341360"/>
                    <a:ext cx="7186680" cy="4210200"/>
                  </a:xfrm>
                  <a:prstGeom prst="rect">
                    <a:avLst/>
                  </a:prstGeom>
                  <a:ln w="38160">
                    <a:solidFill>
                      <a:srgbClr val="80808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2268360" y="1125360"/>
          <a:ext cx="6564600" cy="190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68360" y="1125360"/>
                    <a:ext cx="6564600" cy="1906920"/>
                  </a:xfrm>
                  <a:prstGeom prst="rect">
                    <a:avLst/>
                  </a:prstGeom>
                  <a:ln w="38160">
                    <a:solidFill>
                      <a:srgbClr val="80808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2843280" y="2637000"/>
          <a:ext cx="5592600" cy="3598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843280" y="2637000"/>
                    <a:ext cx="5592600" cy="3598560"/>
                  </a:xfrm>
                  <a:prstGeom prst="rect">
                    <a:avLst/>
                  </a:prstGeom>
                  <a:ln w="38160">
                    <a:solidFill>
                      <a:srgbClr val="80808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2e2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188640"/>
            <a:ext cx="712620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999999"/>
                </a:solidFill>
                <a:latin typeface="Arial"/>
              </a:rPr>
              <a:t>Nutzung des Systems durch andere Einrichtungen</a:t>
            </a: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483920"/>
            <a:ext cx="77724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66"/>
              </a:buClr>
              <a:buFont typeface="Arial"/>
              <a:buChar char="•"/>
              <a:tabLst>
                <a:tab algn="r" pos="753588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66"/>
                </a:solidFill>
                <a:latin typeface="Arial"/>
              </a:rPr>
              <a:t>Kostenlose, verbreitete Basissoftware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ySQL (InnoDB), Java (Tomcat, JavaBeans, Java ServerPages); lässt sich auf einem PC installieren, aber auch auf mehrere Servern verteilen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66"/>
              </a:buClr>
              <a:buFont typeface="Arial"/>
              <a:buChar char="•"/>
              <a:tabLst>
                <a:tab algn="r" pos="753588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66"/>
                </a:solidFill>
                <a:latin typeface="Arial"/>
              </a:rPr>
              <a:t>Entwicklung im Dialog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s Itembanking-Systems wird stets erweitert und weiterentwickelt, und dies in Zusammenarbeit mit anderen Einrichtungen (EMSE-ib). Insbesondere die Kataloge der Merkmale und der Schwierigkeitsskalen werden ständig erweitert.  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66"/>
              </a:buClr>
              <a:buFont typeface="Arial"/>
              <a:buChar char="•"/>
              <a:tabLst>
                <a:tab algn="r" pos="753588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66"/>
                </a:solidFill>
                <a:latin typeface="Arial"/>
              </a:rPr>
              <a:t>Unterstützung durch das IQB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enn eine Einrichtung die Nutzung des Systems beabsichtigt, berät das IQB. Eine Fachkraft zur Administration der Datenbank kann das IQB nicht ersetzen, aber zur IQB-Programmierung wird es stets eine Hotline geben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r" pos="753588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574560" y="533520"/>
            <a:ext cx="2930760" cy="13348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85800" y="3772080"/>
            <a:ext cx="1676520" cy="531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685800" y="3200400"/>
            <a:ext cx="2895480" cy="5716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752480"/>
            <a:ext cx="3276720" cy="458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0" rIns="90000" tIns="288000" bIns="46800" anchor="t">
            <a:spAutoFit/>
          </a:bodyPr>
          <a:p>
            <a:pPr marL="189000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999999"/>
                </a:solidFill>
                <a:latin typeface="MetaBoldLF-Caps"/>
                <a:ea typeface="Arial"/>
              </a:rPr>
              <a:t>telefon</a:t>
            </a:r>
            <a:r>
              <a:rPr b="0" lang="de-DE" sz="1100" spc="-1" strike="noStrike">
                <a:solidFill>
                  <a:srgbClr val="666666"/>
                </a:solidFill>
                <a:latin typeface="MetaBoldLF-Caps"/>
                <a:ea typeface="Arial"/>
              </a:rPr>
              <a:t> </a:t>
            </a:r>
            <a:r>
              <a:rPr b="0" lang="de-DE" sz="1100" spc="-1" strike="noStrike">
                <a:solidFill>
                  <a:srgbClr val="000000"/>
                </a:solidFill>
                <a:latin typeface="MetaBook-Roman"/>
                <a:ea typeface="Arial"/>
              </a:rPr>
              <a:t> +49[30]2093-533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189000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999999"/>
                </a:solidFill>
                <a:latin typeface="MetaBoldLF-Caps"/>
                <a:ea typeface="Arial"/>
              </a:rPr>
              <a:t>telefax</a:t>
            </a:r>
            <a:r>
              <a:rPr b="0" lang="de-DE" sz="1100" spc="-1" strike="noStrike">
                <a:solidFill>
                  <a:srgbClr val="000000"/>
                </a:solidFill>
                <a:latin typeface="MetaBoldLF-Caps"/>
                <a:ea typeface="Arial"/>
              </a:rPr>
              <a:t> </a:t>
            </a:r>
            <a:r>
              <a:rPr b="0" lang="de-DE" sz="1100" spc="-1" strike="noStrike">
                <a:solidFill>
                  <a:srgbClr val="000000"/>
                </a:solidFill>
                <a:latin typeface="MetaBook-Roman"/>
                <a:ea typeface="Arial"/>
              </a:rPr>
              <a:t>  +49[30]2093-5336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189000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MetaBook-Roman"/>
                <a:ea typeface="Arial"/>
              </a:rPr>
              <a:t>IQBoffice@IQB.hu-berlin.d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189000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MetaBook-Roman"/>
                <a:ea typeface="Times New Roman"/>
              </a:rPr>
              <a:t>www.IQB.hu-berlin.de</a:t>
            </a:r>
            <a:r>
              <a:rPr b="0" lang="de-DE" sz="1600" spc="-1" strike="noStrike">
                <a:solidFill>
                  <a:srgbClr val="000000"/>
                </a:solidFill>
                <a:latin typeface="MetaBook-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9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9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9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9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9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9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9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9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9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9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9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999999"/>
                </a:solidFill>
                <a:latin typeface="MetaBoldLF-Caps"/>
                <a:ea typeface="Arial"/>
              </a:rPr>
              <a:t>p</a:t>
            </a:r>
            <a:r>
              <a:rPr b="1" lang="en-US" sz="1100" spc="-1" strike="noStrike">
                <a:solidFill>
                  <a:srgbClr val="999999"/>
                </a:solidFill>
                <a:latin typeface="MetaBoldLF-Caps"/>
                <a:ea typeface="Arial"/>
              </a:rPr>
              <a:t>ostadress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189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MetaBook-Roman"/>
                <a:ea typeface="Times New Roman"/>
              </a:rPr>
              <a:t>Humboldt-Universität zu Berl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189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MetaBook-Roman"/>
                <a:ea typeface="Times New Roman"/>
              </a:rPr>
              <a:t>Unter den Linden 6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189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MetaBook-Roman"/>
                <a:ea typeface="Times New Roman"/>
              </a:rPr>
              <a:t>10099 Berl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189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189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189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999999"/>
                </a:solidFill>
                <a:latin typeface="MetaBoldLF-Caps"/>
                <a:ea typeface="Arial"/>
              </a:rPr>
              <a:t>sitz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189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MetaBook-Roman"/>
                <a:ea typeface="Times New Roman"/>
              </a:rPr>
              <a:t>Jägerstraße 10- 1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189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MetaBook-Roman"/>
                <a:ea typeface="Times New Roman"/>
              </a:rPr>
              <a:t>10117 Berl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638680" y="5867280"/>
            <a:ext cx="3505320" cy="8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288000" tIns="288000" bIns="46800" anchor="t">
            <a:spAutoFit/>
          </a:bodyPr>
          <a:p>
            <a:pPr marL="189000">
              <a:lnSpc>
                <a:spcPct val="100000"/>
              </a:lnSpc>
              <a:tabLst>
                <a:tab algn="l" pos="0"/>
                <a:tab algn="l" pos="171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999999"/>
                </a:solidFill>
                <a:latin typeface="MetaBoldLF-Caps"/>
                <a:ea typeface="Arial"/>
              </a:rPr>
              <a:t>ansprechpartner -&gt;</a:t>
            </a:r>
            <a:r>
              <a:rPr b="1" lang="en-US" sz="1100" spc="-1" strike="noStrike">
                <a:solidFill>
                  <a:srgbClr val="999999"/>
                </a:solidFill>
                <a:latin typeface="MetaBoldLF-Caps"/>
                <a:ea typeface="Arial"/>
              </a:rPr>
              <a:t>	</a:t>
            </a:r>
            <a:r>
              <a:rPr b="0" lang="de-DE" sz="1100" spc="-1" strike="noStrike">
                <a:solidFill>
                  <a:srgbClr val="000000"/>
                </a:solidFill>
                <a:latin typeface="MetaBold-Roman"/>
                <a:ea typeface="Times New Roman"/>
              </a:rPr>
              <a:t>Prof. Dr. Olaf Köll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189000">
              <a:lnSpc>
                <a:spcPct val="100000"/>
              </a:lnSpc>
              <a:tabLst>
                <a:tab algn="l" pos="0"/>
                <a:tab algn="l" pos="171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MetaBold-Roman"/>
                <a:ea typeface="Times New Roman"/>
              </a:rPr>
              <a:t>	</a:t>
            </a:r>
            <a:r>
              <a:rPr b="0" lang="de-DE" sz="900" spc="-1" strike="noStrike">
                <a:solidFill>
                  <a:srgbClr val="000000"/>
                </a:solidFill>
                <a:latin typeface="MetaBook-Roman"/>
                <a:ea typeface="Times New Roman"/>
              </a:rPr>
              <a:t>Direkt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5T11:27:48Z</dcterms:created>
  <dc:creator>M. Mechtel</dc:creator>
  <dc:description/>
  <dc:language>en-US</dc:language>
  <cp:lastModifiedBy>Martin Mechtel</cp:lastModifiedBy>
  <dcterms:modified xsi:type="dcterms:W3CDTF">2005-12-16T18:26:17Z</dcterms:modified>
  <cp:revision>9</cp:revision>
  <dc:subject/>
  <dc:title>PowerPoint-Präsentation</dc:title>
</cp:coreProperties>
</file>