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24160" y="333360"/>
            <a:ext cx="6697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nitoring Hamburger Sprachförderkonz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423720" y="6576840"/>
            <a:ext cx="27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 Hamburg 22.06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240" y="719280"/>
            <a:ext cx="976608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840" y="6572160"/>
            <a:ext cx="976644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9274320" y="1159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Die Hamburger Fahne"/>
          <p:cNvPicPr/>
          <p:nvPr/>
        </p:nvPicPr>
        <p:blipFill>
          <a:blip r:embed="rId3"/>
          <a:stretch/>
        </p:blipFill>
        <p:spPr>
          <a:xfrm>
            <a:off x="144360" y="115920"/>
            <a:ext cx="776520" cy="504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153280" y="65833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üchner,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Die Hamburger Fahne"/>
          <p:cNvPicPr/>
          <p:nvPr/>
        </p:nvPicPr>
        <p:blipFill>
          <a:blip r:embed="rId2"/>
          <a:stretch/>
        </p:blipFill>
        <p:spPr>
          <a:xfrm>
            <a:off x="200160" y="189000"/>
            <a:ext cx="1412640" cy="91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Landesinstitut für Lehrerbildung und Schulentwicklung - Hambur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8985240" y="189000"/>
            <a:ext cx="766800" cy="82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89560" y="189000"/>
            <a:ext cx="44956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Landesinstitut fü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Lehrerbild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u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292526"/>
                </a:solidFill>
                <a:latin typeface="Arial"/>
                <a:ea typeface="Times New Roman"/>
              </a:rPr>
              <a:t>Schul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41600" y="115920"/>
            <a:ext cx="28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örde für Bildung und 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8160" y="2205000"/>
            <a:ext cx="75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nitoring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amburger Sprachförderkonzept</a:t>
            </a:r>
            <a:br>
              <a:rPr sz="2800"/>
            </a:b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ww.schulenfoerdern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08160" y="4724280"/>
            <a:ext cx="7554960" cy="129564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e Büchner und Peter M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334120"/>
            <a:ext cx="777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esinstitut für Lehrerbildung und Schul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at Standardsicherung und Testentwicklung (LIQ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package" Target="../embeddings/oleObject1.docx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14600" y="762120"/>
            <a:ext cx="512604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914400"/>
          <a:ext cx="8915400" cy="554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9154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838080"/>
          <a:ext cx="9829800" cy="52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982980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838080"/>
          <a:ext cx="9219960" cy="51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92199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52440" y="950760"/>
          <a:ext cx="9934560" cy="535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950760"/>
                    <a:ext cx="993456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836640"/>
            <a:ext cx="8915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Ablauf des Monitoring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60" cy="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8600" y="1279440"/>
          <a:ext cx="9677520" cy="488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279440"/>
                    <a:ext cx="967752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765000"/>
            <a:ext cx="8915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Rolle des LIQ im Monitoring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219320"/>
          <a:ext cx="8229600" cy="53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822960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5:09:55Z</dcterms:created>
  <dc:creator>Uni Hamburg FB ErzWiss</dc:creator>
  <dc:description/>
  <dc:language>en-US</dc:language>
  <cp:lastModifiedBy>Peter May</cp:lastModifiedBy>
  <cp:lastPrinted>2006-06-21T14:03:51Z</cp:lastPrinted>
  <dcterms:modified xsi:type="dcterms:W3CDTF">2006-06-21T21:58:50Z</dcterms:modified>
  <cp:revision>708</cp:revision>
  <dc:subject/>
  <dc:title>PowerPoint-Präsentation</dc:title>
</cp:coreProperties>
</file>