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542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542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542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542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542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542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188640"/>
            <a:ext cx="7126200" cy="23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542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542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542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162920" y="-12600"/>
            <a:ext cx="195408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5037120" y="4497480"/>
            <a:ext cx="380196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9999"/>
                </a:solidFill>
                <a:latin typeface="MetaBook-Roman"/>
              </a:rPr>
              <a:t>Unterstützung der Lernstandserhebungen durch Informationstechn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9999"/>
                </a:solidFill>
                <a:latin typeface="MetaBook-Roman"/>
              </a:rPr>
              <a:t>4. EMSE-Treffen 22./23.6.2006 Hambu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9999"/>
                </a:solidFill>
                <a:latin typeface="MetaBook-Roman"/>
              </a:rPr>
              <a:t>Martin Mechtel - IQB-E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9999"/>
                </a:solidFill>
                <a:latin typeface="Arial"/>
              </a:rPr>
              <a:t>Das EMSE-Itemformat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7921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ist eine Konvention, die die Namensgebung, die Struktur und Aspekte der computergestützten Speicherung von Items im Rahmen von Lernstandserhebungen in Deutschland rege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Ziele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währleistung des Austauschs von Items zwischen den beteiligten Einrich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kung von Kosten- und Zeitaufw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Die Konvention wird von einer EMSE-Arbeitsgruppe entwickelt und vom IQB in Berlin betre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720" y="4221000"/>
            <a:ext cx="770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t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uktur ist in einer ersten Version bera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menskonvention ist festg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RW und DPC werden tes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712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999999"/>
                </a:solidFill>
                <a:latin typeface="Arial"/>
              </a:rPr>
              <a:t>Technologiegestütztes Testen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7921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Forschungsschwerpunkt am IQ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Themen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undlagenforschung: neue Medien, neue Interaktionsformen, Erfassung zusätzlicher Personenparameter, asynchrone Testdurchführung, adaptives T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udien zur Machbarkeit: Einsatz erprobter P&amp;P-Items; institutionelle, wirtschaftliche und politische Aspekte, hierbei unterschiedliche Szena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Umsetzung: Vergleich verschiedener Optionen (Tablet-PC, Handhelds, 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Ziele: Höhere Verlässlichkeit der erhobenen Daten, Verbesserung Kosten-Nutzen-Verhältnis, Erhebung bestimmter Kompetenzen erst möglich, Verkürzung Zeit bis Rückme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720" y="5157720"/>
            <a:ext cx="770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Sta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iftungsprofessur ab September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te Machbarkeitsstudie Sommer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3772080"/>
            <a:ext cx="1676520" cy="53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85800" y="3200400"/>
            <a:ext cx="2895480" cy="571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1752480"/>
            <a:ext cx="327672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90000" tIns="288000" bIns="46800" anchor="t">
            <a:spAutoFit/>
          </a:bodyPr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on</a:t>
            </a:r>
            <a:r>
              <a:rPr b="0" lang="de-DE" sz="1100" spc="-1" strike="noStrike">
                <a:solidFill>
                  <a:srgbClr val="666666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+49[30]2093-53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telefax</a:t>
            </a:r>
            <a:r>
              <a:rPr b="0" lang="de-DE" sz="1100" spc="-1" strike="noStrike">
                <a:solidFill>
                  <a:srgbClr val="000000"/>
                </a:solidFill>
                <a:latin typeface="MetaBoldLF-Caps"/>
                <a:ea typeface="Arial"/>
              </a:rPr>
              <a:t> </a:t>
            </a: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  +49[30]2093-533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Arial"/>
              </a:rPr>
              <a:t>IQBoffice@IQB.hu-berlin.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www.IQB.hu-berlin.de</a:t>
            </a:r>
            <a:r>
              <a:rPr b="0" lang="de-DE" sz="1600" spc="-1" strike="noStrike">
                <a:solidFill>
                  <a:srgbClr val="000000"/>
                </a:solidFill>
                <a:latin typeface="MetaBook-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p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ostadres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Humboldt-Universität zu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Unter den Linden 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099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sit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Jägerstraße 10- 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10117 Berl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5867280"/>
            <a:ext cx="35053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288000" tIns="288000" bIns="46800" anchor="t">
            <a:spAutoFit/>
          </a:bodyPr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ansprechpartner -&gt;</a:t>
            </a:r>
            <a:r>
              <a:rPr b="1" lang="en-US" sz="1100" spc="-1" strike="noStrike">
                <a:solidFill>
                  <a:srgbClr val="999999"/>
                </a:solidFill>
                <a:latin typeface="MetaBoldLF-Caps"/>
                <a:ea typeface="Arial"/>
              </a:rPr>
              <a:t>	</a:t>
            </a:r>
            <a:r>
              <a:rPr b="0" lang="de-DE" sz="11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Prof. Dr. Olaf Kö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89000">
              <a:lnSpc>
                <a:spcPct val="100000"/>
              </a:lnSpc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MetaBold-Roman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MetaBook-Roman"/>
                <a:ea typeface="Times New Roman"/>
              </a:rPr>
              <a:t>Direk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1:27:48Z</dcterms:created>
  <dc:creator>M. Mechtel</dc:creator>
  <dc:description/>
  <dc:language>en-US</dc:language>
  <cp:lastModifiedBy> </cp:lastModifiedBy>
  <dcterms:modified xsi:type="dcterms:W3CDTF">2006-06-22T08:10:03Z</dcterms:modified>
  <cp:revision>14</cp:revision>
  <dc:subject/>
  <dc:title>PowerPoint-Präsentation</dc:title>
</cp:coreProperties>
</file>