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D85-E223-4DA0-B47F-5F2A68F4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E8C-808D-4662-9B0E-169C7EFB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AF2-DF13-40C7-A5A9-3108B58A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48F-08A7-45D3-AE73-2AC02638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752-E82C-4406-8B6C-5B746598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652-BDF5-4F08-B672-38B05324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393-AD1C-4098-ADA8-9D759993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59CB-0079-4986-BB27-2478841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CA8-D589-4415-9A1A-0EF61481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7BD-5676-4960-815C-2D85C63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318-AF8C-474C-BD17-A81A4FAD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D71-A3D2-44D7-BBAA-AE0F7A7D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2a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2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42a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42a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179D-EBFC-4998-B88D-296A9EAA1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5877000"/>
            <a:ext cx="2212920" cy="71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6560" y="6453360"/>
            <a:ext cx="6553440" cy="0"/>
          </a:xfrm>
          <a:prstGeom prst="line">
            <a:avLst/>
          </a:prstGeom>
          <a:ln w="9360">
            <a:solidFill>
              <a:srgbClr val="f2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96720" y="6381720"/>
            <a:ext cx="71640" cy="71640"/>
          </a:xfrm>
          <a:prstGeom prst="flowChartMagneticTape">
            <a:avLst/>
          </a:prstGeom>
          <a:solidFill>
            <a:srgbClr val="f20062"/>
          </a:solidFill>
          <a:ln w="9360">
            <a:solidFill>
              <a:srgbClr val="f2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ernstand 6 (VERA 6)</a:t>
            </a:r>
            <a:endParaRPr b="0" lang="en-US" sz="4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2a4"/>
                </a:solidFill>
                <a:latin typeface="Arial"/>
              </a:rPr>
              <a:t>Dr. Gesa Ramm</a:t>
            </a: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Institut für Qualitätsentwicklung an Schulen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Schleswig-Holstein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877-39E9-4AE3-A19D-4B18AD45DA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rnstand 6 (VERA 6)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1998720"/>
            <a:ext cx="61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Gliederung</a:t>
            </a: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Beteiligte Länder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Organigramm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Inhaltsbereiche 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42a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a4"/>
                </a:solidFill>
                <a:latin typeface="Arial"/>
              </a:rPr>
              <a:t>Zeitplan/ Stand der Arbeit</a:t>
            </a:r>
            <a:endParaRPr b="0" lang="en-US" sz="24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5B9B-40B7-4B2C-9A40-8395A808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3C0-1CEF-4CB6-ABBB-579104E07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Beteiligte Länder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48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chleswig-Holstei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Hamburg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Mecklenburg-Vorpommer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Thüringe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42a4"/>
                </a:solidFill>
                <a:latin typeface="Arial"/>
              </a:rPr>
              <a:t>Sachsen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0880" y="2324160"/>
            <a:ext cx="374760" cy="41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35280" y="4653000"/>
            <a:ext cx="38232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35280" y="3502080"/>
            <a:ext cx="40140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844640" y="2905200"/>
            <a:ext cx="351000" cy="45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841400" y="4035600"/>
            <a:ext cx="426960" cy="473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1825560" y="4052880"/>
            <a:ext cx="426960" cy="47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701-AF54-4E6B-B332-963F748200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Organigramm</a:t>
            </a:r>
            <a:endParaRPr b="0" lang="en-US" sz="32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95280" y="1341000"/>
            <a:ext cx="4321080" cy="67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2a4"/>
                </a:solidFill>
                <a:latin typeface="Arial"/>
              </a:rPr>
              <a:t>Koordinierungsgruppe</a:t>
            </a: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a4"/>
                </a:solidFill>
                <a:latin typeface="Arial"/>
              </a:rPr>
              <a:t>(Vertreter aus den Ländern)</a:t>
            </a: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2205000"/>
            <a:ext cx="2449440" cy="1334160"/>
          </a:xfrm>
          <a:prstGeom prst="rect">
            <a:avLst/>
          </a:prstGeom>
          <a:blipFill rotWithShape="0">
            <a:blip r:embed="rId1">
              <a:alphaModFix amt="2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ion der Aufgabenentwicklung 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133720"/>
            <a:ext cx="2449440" cy="1334160"/>
          </a:xfrm>
          <a:prstGeom prst="rect">
            <a:avLst/>
          </a:prstGeom>
          <a:blipFill rotWithShape="0">
            <a:blip r:embed="rId2">
              <a:alphaModFix amt="4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ordination der Aufgabenentwicklung 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Herw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933720"/>
            <a:ext cx="734364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fgabenentwickl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wei Lehrkräfte pro Fach aus den Ländern (TH, SH, MV, HH, 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4720" y="4869000"/>
            <a:ext cx="6048360" cy="146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chexperten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Blatt, Prof. Kö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themati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Prof. Reiss, Frau Dr. Neubrand, Herr L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Siebold, Claudia Har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iri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r. Nachtig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360" y="3573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427640" y="458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12000" y="2205000"/>
            <a:ext cx="2809800" cy="1334160"/>
            <a:chOff x="6012000" y="2205000"/>
            <a:chExt cx="2809800" cy="1334160"/>
          </a:xfrm>
        </p:grpSpPr>
        <p:sp>
          <p:nvSpPr>
            <p:cNvPr id="66" name=""/>
            <p:cNvSpPr/>
            <p:nvPr/>
          </p:nvSpPr>
          <p:spPr>
            <a:xfrm>
              <a:off x="6012000" y="2205000"/>
              <a:ext cx="1225800" cy="1334160"/>
            </a:xfrm>
            <a:prstGeom prst="rect">
              <a:avLst/>
            </a:prstGeom>
            <a:blipFill rotWithShape="0">
              <a:blip r:embed="rId3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Koordina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ufgabene „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Englisch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err Hyat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37800" y="2205000"/>
              <a:ext cx="1584000" cy="1334160"/>
            </a:xfrm>
            <a:prstGeom prst="rect">
              <a:avLst/>
            </a:prstGeom>
            <a:blipFill rotWithShape="0">
              <a:blip r:embed="rId4">
                <a:alphaModFix amt="4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ion der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twicklung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MV, H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rau Fraedr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C2BA-6F41-411F-A1A0-82C6E79D6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357336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FC1-EC89-4289-B4EE-24B671DF5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nhalte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8360" y="1700280"/>
          <a:ext cx="8229600" cy="4532400"/>
        </p:xfrm>
        <a:graphic>
          <a:graphicData uri="http://schemas.openxmlformats.org/drawingml/2006/table">
            <a:tbl>
              <a:tblPr/>
              <a:tblGrid>
                <a:gridCol w="2087640"/>
                <a:gridCol w="614196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2a4"/>
                          </a:solidFill>
                          <a:latin typeface="Arial"/>
                        </a:rPr>
                        <a:t>F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42a4"/>
                          </a:solidFill>
                          <a:latin typeface="Arial"/>
                        </a:rPr>
                        <a:t>Inhaltsbereiche für 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Mathemati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. 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2. Messen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. Raum und For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4. In geringerem Umfang: Funktiona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Zusammenhang, Daten und Zuf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Deut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. Leseverständn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. Sprache und Sprachgebrau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. Zur Erprobung: Schrei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Englis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1. Leseverständ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2. Hörverst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3. Schrei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39640" y="2205000"/>
            <a:ext cx="8136000" cy="0"/>
          </a:xfrm>
          <a:prstGeom prst="line">
            <a:avLst/>
          </a:prstGeom>
          <a:ln w="9360">
            <a:solidFill>
              <a:srgbClr val="004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11F8-6122-4748-A41A-2828F0E05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EDA-9E1D-4CCA-B862-BF318F277B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1557360"/>
            <a:ext cx="640872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Konstitution der Koordinierungs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Festlegung der Projektverantwortl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ewinnung der Expert/innen und Aufgabenentwickler/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999"/>
                </a:solidFill>
                <a:latin typeface="Arial"/>
              </a:rPr>
              <a:t>8./9.05.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9999"/>
                </a:solidFill>
                <a:latin typeface="Arial"/>
              </a:rPr>
              <a:t>Auftaktveranstal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Beginn der Aufgabenent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Abschluss der Aufgabenentwicklung (30.10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Abschluss der Aufgabenbewert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ewinnung der Testleiter (Pilotie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Ziehung der Stichprobe zur Pilo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A82-AD34-4AA2-A92D-35AED889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364500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7EC-43FD-4B97-BB49-1735701BE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79640" y="1557360"/>
            <a:ext cx="66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rstellung der Testman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Schulung der Testl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rstellen der Testmanuale, Druck  u. Ver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9933ff"/>
                </a:solidFill>
                <a:latin typeface="Arial"/>
              </a:rPr>
              <a:t>18.-28.2. Pilotierung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(3 Tage jeweils 90 mi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Marking der Testhef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Datenein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Übergabe der Daten zur 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Datenanalyse und Itemaus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Entwicklung eines Kontextfragebo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ggf. Nachpilotierung veränderter Testaufg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Information der Schulen </a:t>
            </a:r>
            <a:br>
              <a:rPr sz="1800"/>
            </a:br>
            <a:r>
              <a:rPr b="0" lang="de-DE" sz="1800" spc="-1" strike="noStrike">
                <a:solidFill>
                  <a:srgbClr val="0042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A46-DC00-420E-A74D-3F8E217F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97D-01DC-43F4-B09F-F1446A530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eitplan</a:t>
            </a:r>
            <a:endParaRPr b="0" lang="en-US" sz="36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42a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557360"/>
            <a:ext cx="5905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rstellen der Druckvorlagen (Testhef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rstellen der Eingabemas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.-28.2. Haupttest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(3 Tage jeweils 90 mi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Eingabe der Schülerergebnisse durch Lehrkräfte auf </a:t>
            </a:r>
            <a:br>
              <a:rPr sz="1800"/>
            </a:b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dem Internet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Schulrückmel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Datenanaly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4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Abschlussbe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1125360"/>
            <a:ext cx="792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42a4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1628640"/>
            <a:ext cx="0" cy="4753080"/>
          </a:xfrm>
          <a:prstGeom prst="line">
            <a:avLst/>
          </a:prstGeom>
          <a:ln w="19080">
            <a:solidFill>
              <a:srgbClr val="0042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216000" y="6473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005A-D826-4494-B348-48CFB7AD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BDC-5AB2-4DEA-A834-3BE3A5A4E7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527280" cy="229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7FDA-CDDC-4E81-9AD4-9BA7F317F9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0:01:49Z</dcterms:created>
  <dc:creator>Gesa Ramm</dc:creator>
  <dc:description/>
  <dc:language>en-US</dc:language>
  <cp:lastModifiedBy>Gesa Ramm</cp:lastModifiedBy>
  <dcterms:modified xsi:type="dcterms:W3CDTF">2006-06-22T08:39:44Z</dcterms:modified>
  <cp:revision>42</cp:revision>
  <dc:subject/>
  <dc:title>VERA</dc:title>
</cp:coreProperties>
</file>