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4D50-3A7E-4BBF-B845-B640CE9905A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6718-7E11-4779-8C4D-BE865F55F78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CEFA-EA69-4BE3-AF9C-FFD13ACB93E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ADC3-E278-4D44-94FE-C8056A36CA3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5ACD-3F18-4828-B2EB-CCE90705265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6BEE-82A7-478B-8286-89E0D27C308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FA4C-7E81-450C-A55C-3936D1BCC7E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23BB-CFBB-4B3E-8C4E-9AFBA2B4D5F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F12B-BBCA-4C69-A970-1AAA3B8434B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779640" y="9266040"/>
            <a:ext cx="28890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B912-442B-4DAA-B3EC-E9A08EE3AE4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9266040"/>
            <a:ext cx="288936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80920" y="74916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6400" y="4641840"/>
            <a:ext cx="485964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ADA-B202-4768-86E8-CBA7C307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F3F-8564-4445-95D4-73739919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178-A326-4BA2-A9E0-4BB514F3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7273-DE2C-49F8-8E24-4A9752D9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4F4-7483-472C-8429-FC1CAACB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4976-AC3F-491D-889B-C7A58D25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10D-3CDB-441F-AF63-77586C3F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92A4-21D0-4934-8EA8-0F1076E9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DE7-2FD2-46A8-959F-E5AD3CF7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0823-DA93-491A-869E-FD492566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AE4-C888-4D89-AA12-E86CDF91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6D7-1812-4C13-97A4-E06A9C78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lfs.nrw.de/index.html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E178-FB76-4F75-ABA4-E738EFA5809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138720"/>
            <a:ext cx="9144000" cy="719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13387" t="11017" r="17657" b="84855"/>
          <a:stretch/>
        </p:blipFill>
        <p:spPr>
          <a:xfrm>
            <a:off x="396720" y="6259680"/>
            <a:ext cx="3167280" cy="4460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Lf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6203880"/>
            <a:ext cx="2457360" cy="6098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203640" y="62229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81080"/>
            <a:ext cx="85341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rnstandserhebungen in Nordrhein-Westf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rgebnisrückmeldung auf Individualebene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ei den Lernstandserhebungen 9 im Schuljahr 2005/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4000" y="4724280"/>
            <a:ext cx="172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ter Dobbelst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. Rainer Pe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0705" t="22641" r="5537" b="19688"/>
          <a:stretch/>
        </p:blipFill>
        <p:spPr>
          <a:xfrm>
            <a:off x="0" y="1228680"/>
            <a:ext cx="9144000" cy="4721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260280"/>
            <a:ext cx="8425080" cy="530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…) Der Test enthäl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erschiedlich schwere Aufgab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ie in den 6 getesteten Bereichen der Fächer Mathematik, Deutsch und Englis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unterschiedliche Niveaus eingetei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u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Tabellen zeigen Ihnen durch eine Markierung in der Zeile ,,Ergebnis Ihrer Tochter / Ihres Sohnes”, ob sie bzw. er bei den Lernstandserhebungen berei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fgab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r anspruchsvollen Niveaus (z.B. 4 oder 5 in Deutsch-Leseverstehen), der erweiterten Niveaus oder des grundlegenden Niveau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löst 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aus lässt sich allerdings nicht eindeutig das Kompetenzniveau eines einzelnen Schülers bzw. einer einzelnen Schülerin ablei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elle Stärken und Schwächen können mit solchen Testverfahren nicht umfassend und hinreichend präzise erfasst werden. 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2920" y="3284640"/>
            <a:ext cx="8893080" cy="1296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0705" t="22641" r="5537" b="19688"/>
          <a:stretch/>
        </p:blipFill>
        <p:spPr>
          <a:xfrm>
            <a:off x="0" y="1084320"/>
            <a:ext cx="9144000" cy="4721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9640" y="260280"/>
            <a:ext cx="8425080" cy="574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…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 der Betrachtung der Ergebnisse Ihres Kindes sollten Sie …  beachten, dass die Lernstandserhebungen das Können von einzelnen Schülerinnen und Schülern nicht mit absoluter Sicherheit messen. So kann Ihre Tochter bzw. Ihr Sohn beispielsweise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tag einzelne Aufgaben missverstanden haben oder sie bzw. er war schlechter konzentriert als son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eichwohl bieten die Ergebnisse der Lernstandserhebungen eine wichtige Orientierung über den erreichten Lernstand, die Ausgangspunkt für weitere Klärungen zum Lern- und Förderbedarf sein kan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 empfehlen Ihnen deshalb, über die Ergebnisse Ih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des mit den Lehrkräften der Schule zu sprec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1075" t="21657" r="12182" b="13289"/>
          <a:stretch/>
        </p:blipFill>
        <p:spPr>
          <a:xfrm>
            <a:off x="250920" y="293760"/>
            <a:ext cx="8785080" cy="55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836640"/>
            <a:ext cx="813744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e Regelung zur Berücksichtigung von Lernstandserhebungen bei der Leistungsbewertu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b LSE 2006/200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 § 48 des neuen Schulgesetzes wird gerege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entrale Lernstandserhebungen überprüfen, inwieweit in Kernlehrplänen enthaltene Kompetenzerwartungen von den Schülerinnen und Schülern erreicht wu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 sich die Anforderungen der Lernstandserhebungen nicht nur auf den vorhergehenden Unterricht beziehen, werden si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rgänzend bei der Leistungsbewertung herangezo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4480" y="98748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480" y="987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25520"/>
            <a:ext cx="807732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Zentrale Zielsetzung der Lernstandserhebungen: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18184a"/>
              </a:buClr>
              <a:buFont typeface="Times New Roman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18184a"/>
                </a:solidFill>
                <a:latin typeface="Times New Roman"/>
              </a:rPr>
              <a:t>Professionalisierung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 des fachlichen Diskurses vor dem 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Hintergrund erreichter und erreichbarer Standards in der 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eigenen Sch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primäre Adressaten: 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Fachlehrkräfte</a:t>
            </a:r>
            <a:br>
              <a:rPr sz="2400"/>
            </a:b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Fachkonferenzen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8184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80880" y="3860640"/>
            <a:ext cx="914400" cy="2082600"/>
            <a:chOff x="380880" y="3860640"/>
            <a:chExt cx="914400" cy="2082600"/>
          </a:xfrm>
        </p:grpSpPr>
        <p:sp>
          <p:nvSpPr>
            <p:cNvPr id="58" name=""/>
            <p:cNvSpPr/>
            <p:nvPr/>
          </p:nvSpPr>
          <p:spPr>
            <a:xfrm>
              <a:off x="380880" y="3860640"/>
              <a:ext cx="457200" cy="800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140040 h 800640"/>
                <a:gd name="textAreaBottom" fmla="*/ 580680 h 80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5280" y="4100760"/>
              <a:ext cx="0" cy="1842480"/>
            </a:xfrm>
            <a:prstGeom prst="line">
              <a:avLst/>
            </a:prstGeom>
            <a:ln w="66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1297080" y="4038480"/>
            <a:ext cx="71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nweise auf Stärken und Schwächen der eigenen Schule im fachlichen Ler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4952880"/>
            <a:ext cx="716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ziertere Wahrnehmung von Schülerleistung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vergleichender Perspek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ezogen auf Bezugsgruppen und Kriterien)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480" y="98748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" y="987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304812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260280"/>
            <a:ext cx="8569080" cy="58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361800">
              <a:tabLst>
                <a:tab algn="l" pos="0"/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buClr>
                <a:srgbClr val="3333cc"/>
              </a:buClr>
              <a:buFont typeface="Wingdings" charset="2"/>
              <a:buChar char="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buClr>
                <a:srgbClr val="3333cc"/>
              </a:buClr>
              <a:buFont typeface="Wingdings" charset="2"/>
              <a:buChar char="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nmittelbar nach dem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üler- und Klassenfeed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ür den Durchgang dur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e Aufgabenhefte in der Klasse / im K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tabLst>
                <a:tab algn="l" pos="0"/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ressaten: die Klassen/Kurse bzw. Schülerinnen und Schüler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spcBef>
                <a:spcPts val="7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ach der Datenauswertung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ca. 4 Monate nach dem Testter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ompetenzniveaubezogene Rückmeldung der Jahrgangsstufenergebnis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 Vergleich zu Referenzgrupp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Klassen/Kurse, Schulform, Standorttyp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spcBef>
                <a:spcPts val="788"/>
              </a:spcBef>
              <a:tabLst>
                <a:tab algn="l" pos="0"/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usätz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hliche Differenzierunge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Form ausgewählter Lösungsquoten und fachlicher Kommentierungen von Aufgab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buClr>
                <a:srgbClr val="000000"/>
              </a:buClr>
              <a:buFont typeface="Times New Roman"/>
              <a:buChar char="•"/>
              <a:tabLst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üler- und Elterninformation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zu individuellen Ergebnissen, Klassenergebnissen und Ergebnissen der Jahrgangsstu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23880" indent="-361800">
              <a:tabLst>
                <a:tab algn="l" pos="0"/>
                <a:tab algn="l" pos="62388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560000">
            <a:off x="6011280" y="811080"/>
            <a:ext cx="295272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19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ückme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057400"/>
            <a:ext cx="82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62064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Zentrale Lernstandserhebungen (Vergleichsarbei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dErl. des Ministeriums für Schule und Weiterbildung in der bereinigten Fassung vom 17.9.2005 - 521-6.01.04-3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Umgang mit den Ergeb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Fachlehrkräfte geben den einzelnen Schülerinnen und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ülern ihre Ergebnisse bekannt. Die Erziehungsberech-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igten werden durch die Fachlehrkräfte mit einem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ndes-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heitlich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ormblatt über die Ergebnisse ihres Kindes, das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 der Klasse, die ihr Kind besucht, sowie das Ergebnis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Schule informie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238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480" y="98748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480" y="9874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304812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60280"/>
            <a:ext cx="835164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208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  <a:tab algn="l" pos="4867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chüler- / Klassenfeedb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26208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  <a:tab algn="l" pos="4867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urchgang durch die Aufgabenhefte in der Klasse unmittelbar nach 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Dateneingabe für eine Klasse / einen Kur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n Schüler/innen soll das Konzept des Tests transparent gemacht werden und si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len zeitnah eine erste Rückmeldung zum Test und zu ihren Ergebnissen erhalten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sgangspunkt dafür sind eigene Ergebnisse und fachliche Erläuterungen zu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fgaben ausgewählter Testtei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3213000"/>
            <a:ext cx="756144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s Material für die Feedbackstunde umfass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xt- und das Aufgabenhe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ür jede Schülerin und jeden Schü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ür jede Schülerin / jeden Schüler e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enblatt zu Ergebniss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ü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mplarische Aufga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n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lienvorlage für die Lehrkra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it einer Ergebnisübersicht für dies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mplarischen Aufga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nweise für die Lehrkra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 (Vorschlag zur Gestaltung d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edbackstunde; fachliche Erläuterungen zu den ausgewählten Aufgab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785080" cy="65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0574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ternrückme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7080" y="114480"/>
            <a:ext cx="8837640" cy="66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32000" y="3573360"/>
            <a:ext cx="611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9144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1905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10705" t="22641" r="5537" b="19688"/>
          <a:stretch/>
        </p:blipFill>
        <p:spPr>
          <a:xfrm>
            <a:off x="0" y="1084320"/>
            <a:ext cx="9144000" cy="4721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9640" y="260280"/>
            <a:ext cx="8425080" cy="530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…) Der Test enthält unterschiedlich schwere Aufgaben, die in den 6 getesteten Bereichen der Fächer Mathematik, Deutsch und Englisch in unterschiedliche Niveaus eingeteilt wu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Tabellen zeigen Ihnen durch eine Markierung in der Zeile ,,Ergebnis Ihrer Tochter / Ihres Sohnes”, ob sie bzw. er bei den Lernstandserhebungen bereits Aufgaben der anspruchsvollen Niveaus (z.B. 4 oder 5 in Deutsch-Leseverstehen), der erweiterten Niveaus oder des grundlegenden Niveaus gelöst 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aus lässt sich allerdings nicht eindeutig das Kompetenzniveau eines einzelnen Schülers bzw. einer einzelnen Schülerin ablei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elle Stärken und Schwächen können mit solchen Testverfahren nicht umfassend und hinreichend präzise erfasst werden. 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4T21:26:11Z</dcterms:created>
  <dc:creator/>
  <dc:description/>
  <dc:language>en-US</dc:language>
  <cp:lastModifiedBy>Dobbelstein Peter</cp:lastModifiedBy>
  <dcterms:modified xsi:type="dcterms:W3CDTF">2006-06-21T15:04:33Z</dcterms:modified>
  <cp:revision>1302</cp:revision>
  <dc:subject/>
  <dc:title>Kein Folientitel</dc:title>
</cp:coreProperties>
</file>