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jpeg" ContentType="image/jpeg"/>
  <Override PartName="/ppt/media/image8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7CCD-632A-4954-BF69-26543A083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2CF7-C92B-467C-84E2-B74F54A58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3A87-EEFA-4698-9756-CF6924C83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0192-8A17-467F-B87D-1F018B3F1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F546-CF8C-4359-A0A8-83C436BAC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DF5D-741F-499F-A621-C2BBF48C4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B0C9-F113-41FD-8CB9-62BAEDC25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F85B-C570-4A51-A042-DA7C4CBCD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63CC-E9C3-4212-9931-7C16BE91E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34A9-C7B2-4DCA-8C15-994A9A2C1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DD98-C9F3-4822-9B9E-C6B7A81E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B932-4174-47E8-BD3A-1247850A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65994-1957-46B7-9367-9CA86C6052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package" Target="../embeddings/oleObject1.docx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762120" y="516564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574560" y="533520"/>
            <a:ext cx="2930760" cy="1334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747680" y="5070600"/>
            <a:ext cx="4083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a50021"/>
                </a:solidFill>
                <a:latin typeface="Verdana"/>
              </a:rPr>
              <a:t>Prof. Dr. Olaf Kö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a50021"/>
                </a:solidFill>
                <a:latin typeface="Verdana"/>
              </a:rPr>
              <a:t>Institut zur Qualitätsentwickl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a50021"/>
                </a:solidFill>
                <a:latin typeface="Verdana"/>
              </a:rPr>
              <a:t>im Bildungswe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Verdana"/>
              </a:rPr>
              <a:t>iqboffice@iqb.hu-berlin.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Verdana"/>
              </a:rPr>
              <a:t>www.iqb.hu-berlin.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2627280"/>
            <a:ext cx="842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990000"/>
                </a:solidFill>
                <a:latin typeface="Verdana"/>
              </a:rPr>
              <a:t>Stand der Planungen im IQB nach den Plöner Beschlü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6227640" y="404640"/>
            <a:ext cx="223200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-2332080"/>
            <a:ext cx="9144000" cy="54705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7162920" y="380880"/>
            <a:ext cx="1954080" cy="7779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159240" y="444600"/>
            <a:ext cx="29520" cy="122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c2435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940520" y="1281240"/>
            <a:ext cx="28800" cy="36360"/>
          </a:xfrm>
          <a:custGeom>
            <a:avLst/>
            <a:gdLst/>
            <a:ahLst/>
            <a:rect l="l" t="t" r="r" b="b"/>
            <a:pathLst>
              <a:path w="16" h="16">
                <a:moveTo>
                  <a:pt x="0" y="0"/>
                </a:move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16" y="8"/>
                </a:lnTo>
                <a:lnTo>
                  <a:pt x="16" y="8"/>
                </a:lnTo>
                <a:lnTo>
                  <a:pt x="16" y="8"/>
                </a:lnTo>
                <a:lnTo>
                  <a:pt x="16" y="8"/>
                </a:lnTo>
                <a:lnTo>
                  <a:pt x="16" y="16"/>
                </a:lnTo>
              </a:path>
            </a:pathLst>
          </a:custGeom>
          <a:solidFill>
            <a:srgbClr val="ffffcc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39528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Verdana"/>
              </a:rPr>
              <a:t>Derzeitiger Arbeitsstand am IQ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Verdana"/>
              </a:rPr>
              <a:t>Sekundarstufe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539640" y="2786040"/>
          <a:ext cx="8351640" cy="3754440"/>
        </p:xfrm>
        <a:graphic>
          <a:graphicData uri="http://schemas.openxmlformats.org/drawingml/2006/table">
            <a:tbl>
              <a:tblPr/>
              <a:tblGrid>
                <a:gridCol w="2879640"/>
                <a:gridCol w="1944720"/>
                <a:gridCol w="1728720"/>
                <a:gridCol w="179856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Verdana"/>
                        </a:rPr>
                        <a:t>Fa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c2435"/>
                      </a:solidFill>
                    </a:lnL>
                    <a:lnR w="5760">
                      <a:solidFill>
                        <a:srgbClr val="8c2435"/>
                      </a:solidFill>
                    </a:lnR>
                    <a:lnT w="5760">
                      <a:solidFill>
                        <a:srgbClr val="8c2435"/>
                      </a:solidFill>
                    </a:lnT>
                    <a:lnB w="5760">
                      <a:solidFill>
                        <a:srgbClr val="8c2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Verdana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c2435"/>
                      </a:solidFill>
                    </a:lnL>
                    <a:lnR w="5760">
                      <a:solidFill>
                        <a:srgbClr val="8c2435"/>
                      </a:solidFill>
                    </a:lnR>
                    <a:lnT w="5760">
                      <a:solidFill>
                        <a:srgbClr val="8c2435"/>
                      </a:solidFill>
                    </a:lnT>
                    <a:lnB w="5760">
                      <a:solidFill>
                        <a:srgbClr val="8c2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Verdana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c2435"/>
                      </a:solidFill>
                    </a:lnL>
                    <a:lnR w="5760">
                      <a:solidFill>
                        <a:srgbClr val="8c2435"/>
                      </a:solidFill>
                    </a:lnR>
                    <a:lnT w="5760">
                      <a:solidFill>
                        <a:srgbClr val="8c2435"/>
                      </a:solidFill>
                    </a:lnT>
                    <a:lnB w="5760">
                      <a:solidFill>
                        <a:srgbClr val="8c2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Verdana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c2435"/>
                      </a:solidFill>
                    </a:lnL>
                    <a:lnR w="5760">
                      <a:solidFill>
                        <a:srgbClr val="8c2435"/>
                      </a:solidFill>
                    </a:lnR>
                    <a:lnT w="5760">
                      <a:solidFill>
                        <a:srgbClr val="8c2435"/>
                      </a:solidFill>
                    </a:lnT>
                    <a:lnB w="5760">
                      <a:solidFill>
                        <a:srgbClr val="8c2435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Verdana"/>
                        </a:rPr>
                        <a:t>Deuts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c2435"/>
                      </a:solidFill>
                    </a:lnL>
                    <a:lnR w="5760">
                      <a:solidFill>
                        <a:srgbClr val="8c2435"/>
                      </a:solidFill>
                    </a:lnR>
                    <a:lnT w="5760">
                      <a:solidFill>
                        <a:srgbClr val="8c2435"/>
                      </a:solidFill>
                    </a:lnT>
                    <a:lnB w="5760">
                      <a:solidFill>
                        <a:srgbClr val="8c2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a50021"/>
                          </a:solidFill>
                          <a:latin typeface="Verdana"/>
                        </a:rPr>
                        <a:t>Aufgaben-entwicklu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c2435"/>
                      </a:solidFill>
                    </a:lnL>
                    <a:lnR w="5760">
                      <a:solidFill>
                        <a:srgbClr val="8c2435"/>
                      </a:solidFill>
                    </a:lnR>
                    <a:lnT w="5760">
                      <a:solidFill>
                        <a:srgbClr val="8c2435"/>
                      </a:solidFill>
                    </a:lnT>
                    <a:lnB w="5760">
                      <a:solidFill>
                        <a:srgbClr val="8c2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Verdana"/>
                        </a:rPr>
                        <a:t>Pilotieru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c2435"/>
                      </a:solidFill>
                    </a:lnL>
                    <a:lnR w="5760">
                      <a:solidFill>
                        <a:srgbClr val="8c2435"/>
                      </a:solidFill>
                    </a:lnR>
                    <a:lnT w="5760">
                      <a:solidFill>
                        <a:srgbClr val="8c2435"/>
                      </a:solidFill>
                    </a:lnT>
                    <a:lnB w="5760">
                      <a:solidFill>
                        <a:srgbClr val="8c2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Verdana"/>
                        </a:rPr>
                        <a:t>Normieru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c2435"/>
                      </a:solidFill>
                    </a:lnL>
                    <a:lnR w="5760">
                      <a:solidFill>
                        <a:srgbClr val="8c2435"/>
                      </a:solidFill>
                    </a:lnR>
                    <a:lnT w="5760">
                      <a:solidFill>
                        <a:srgbClr val="8c2435"/>
                      </a:solidFill>
                    </a:lnT>
                    <a:lnB w="5760">
                      <a:solidFill>
                        <a:srgbClr val="8c2435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Verdana"/>
                        </a:rPr>
                        <a:t>Mathemati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c2435"/>
                      </a:solidFill>
                    </a:lnL>
                    <a:lnR w="5760">
                      <a:solidFill>
                        <a:srgbClr val="8c2435"/>
                      </a:solidFill>
                    </a:lnR>
                    <a:lnT w="5760">
                      <a:solidFill>
                        <a:srgbClr val="8c2435"/>
                      </a:solidFill>
                    </a:lnT>
                    <a:lnB w="5760">
                      <a:solidFill>
                        <a:srgbClr val="8c2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Verdana"/>
                        </a:rPr>
                        <a:t>Normieru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c2435"/>
                      </a:solidFill>
                    </a:lnL>
                    <a:lnR w="5760">
                      <a:solidFill>
                        <a:srgbClr val="8c2435"/>
                      </a:solidFill>
                    </a:lnR>
                    <a:lnT w="5760">
                      <a:solidFill>
                        <a:srgbClr val="8c2435"/>
                      </a:solidFill>
                    </a:lnT>
                    <a:lnB w="5760">
                      <a:solidFill>
                        <a:srgbClr val="8c2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c2435"/>
                      </a:solidFill>
                    </a:lnL>
                    <a:lnR w="5760">
                      <a:solidFill>
                        <a:srgbClr val="8c2435"/>
                      </a:solidFill>
                    </a:lnR>
                    <a:lnT w="5760">
                      <a:solidFill>
                        <a:srgbClr val="8c2435"/>
                      </a:solidFill>
                    </a:lnT>
                    <a:lnB w="5760">
                      <a:solidFill>
                        <a:srgbClr val="8c2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c2435"/>
                      </a:solidFill>
                    </a:lnL>
                    <a:lnR w="5760">
                      <a:solidFill>
                        <a:srgbClr val="8c2435"/>
                      </a:solidFill>
                    </a:lnR>
                    <a:lnT w="5760">
                      <a:solidFill>
                        <a:srgbClr val="8c2435"/>
                      </a:solidFill>
                    </a:lnT>
                    <a:lnB w="5760">
                      <a:solidFill>
                        <a:srgbClr val="8c2435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Verdana"/>
                        </a:rPr>
                        <a:t>1. Fremdspra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c2435"/>
                      </a:solidFill>
                    </a:lnL>
                    <a:lnR w="5760">
                      <a:solidFill>
                        <a:srgbClr val="8c2435"/>
                      </a:solidFill>
                    </a:lnR>
                    <a:lnT w="5760">
                      <a:solidFill>
                        <a:srgbClr val="8c2435"/>
                      </a:solidFill>
                    </a:lnT>
                    <a:lnB w="5760">
                      <a:solidFill>
                        <a:srgbClr val="8c2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a50021"/>
                          </a:solidFill>
                          <a:latin typeface="Verdana"/>
                        </a:rPr>
                        <a:t>Aufgaben-entwicklu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c2435"/>
                      </a:solidFill>
                    </a:lnL>
                    <a:lnR w="5760">
                      <a:solidFill>
                        <a:srgbClr val="8c2435"/>
                      </a:solidFill>
                    </a:lnR>
                    <a:lnT w="5760">
                      <a:solidFill>
                        <a:srgbClr val="8c2435"/>
                      </a:solidFill>
                    </a:lnT>
                    <a:lnB w="5760">
                      <a:solidFill>
                        <a:srgbClr val="8c2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Verdana"/>
                        </a:rPr>
                        <a:t>Pilotieru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c2435"/>
                      </a:solidFill>
                    </a:lnL>
                    <a:lnR w="5760">
                      <a:solidFill>
                        <a:srgbClr val="8c2435"/>
                      </a:solidFill>
                    </a:lnR>
                    <a:lnT w="5760">
                      <a:solidFill>
                        <a:srgbClr val="8c2435"/>
                      </a:solidFill>
                    </a:lnT>
                    <a:lnB w="5760">
                      <a:solidFill>
                        <a:srgbClr val="8c2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Verdana"/>
                        </a:rPr>
                        <a:t>Normieru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c2435"/>
                      </a:solidFill>
                    </a:lnL>
                    <a:lnR w="5760">
                      <a:solidFill>
                        <a:srgbClr val="8c2435"/>
                      </a:solidFill>
                    </a:lnR>
                    <a:lnT w="5760">
                      <a:solidFill>
                        <a:srgbClr val="8c2435"/>
                      </a:solidFill>
                    </a:lnT>
                    <a:lnB w="5760">
                      <a:solidFill>
                        <a:srgbClr val="8c2435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Verdana"/>
                        </a:rPr>
                        <a:t>Naturwissenschaft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c2435"/>
                      </a:solidFill>
                    </a:lnL>
                    <a:lnR w="5760">
                      <a:solidFill>
                        <a:srgbClr val="8c2435"/>
                      </a:solidFill>
                    </a:lnR>
                    <a:lnT w="5760">
                      <a:solidFill>
                        <a:srgbClr val="8c2435"/>
                      </a:solidFill>
                    </a:lnT>
                    <a:lnB w="5760">
                      <a:solidFill>
                        <a:srgbClr val="8c2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c2435"/>
                      </a:solidFill>
                    </a:lnL>
                    <a:lnR w="5760">
                      <a:solidFill>
                        <a:srgbClr val="8c2435"/>
                      </a:solidFill>
                    </a:lnR>
                    <a:lnT w="5760">
                      <a:solidFill>
                        <a:srgbClr val="8c2435"/>
                      </a:solidFill>
                    </a:lnT>
                    <a:lnB w="5760">
                      <a:solidFill>
                        <a:srgbClr val="8c2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a50021"/>
                          </a:solidFill>
                          <a:latin typeface="Verdana"/>
                        </a:rPr>
                        <a:t>Aufgaben-entwicklu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c2435"/>
                      </a:solidFill>
                    </a:lnL>
                    <a:lnR w="5760">
                      <a:solidFill>
                        <a:srgbClr val="8c2435"/>
                      </a:solidFill>
                    </a:lnR>
                    <a:lnT w="5760">
                      <a:solidFill>
                        <a:srgbClr val="8c2435"/>
                      </a:solidFill>
                    </a:lnT>
                    <a:lnB w="5760">
                      <a:solidFill>
                        <a:srgbClr val="8c2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Verdana"/>
                        </a:rPr>
                        <a:t>Pilotierung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c2435"/>
                      </a:solidFill>
                    </a:lnL>
                    <a:lnR w="5760">
                      <a:solidFill>
                        <a:srgbClr val="8c2435"/>
                      </a:solidFill>
                    </a:lnR>
                    <a:lnT w="5760">
                      <a:solidFill>
                        <a:srgbClr val="8c2435"/>
                      </a:solidFill>
                    </a:lnT>
                    <a:lnB w="5760">
                      <a:solidFill>
                        <a:srgbClr val="8c2435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5258520" y="217980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2435"/>
                </a:solidFill>
                <a:latin typeface="Verdana"/>
              </a:rPr>
              <a:t>Ja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-2332080"/>
            <a:ext cx="9144000" cy="54705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7162920" y="380880"/>
            <a:ext cx="1954080" cy="7779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159240" y="444600"/>
            <a:ext cx="29520" cy="122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c2435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940520" y="1281240"/>
            <a:ext cx="28800" cy="36360"/>
          </a:xfrm>
          <a:custGeom>
            <a:avLst/>
            <a:gdLst/>
            <a:ahLst/>
            <a:rect l="l" t="t" r="r" b="b"/>
            <a:pathLst>
              <a:path w="16" h="16">
                <a:moveTo>
                  <a:pt x="0" y="0"/>
                </a:move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16" y="8"/>
                </a:lnTo>
                <a:lnTo>
                  <a:pt x="16" y="8"/>
                </a:lnTo>
                <a:lnTo>
                  <a:pt x="16" y="8"/>
                </a:lnTo>
                <a:lnTo>
                  <a:pt x="16" y="8"/>
                </a:lnTo>
                <a:lnTo>
                  <a:pt x="16" y="16"/>
                </a:lnTo>
              </a:path>
            </a:pathLst>
          </a:custGeom>
          <a:solidFill>
            <a:srgbClr val="ffffcc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39528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a50021"/>
                </a:solidFill>
                <a:latin typeface="Verdana"/>
              </a:rPr>
              <a:t>Derzeitiger Arbeitsstand am IQB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a50021"/>
                </a:solidFill>
                <a:latin typeface="Verdana"/>
              </a:rPr>
              <a:t>Technologiebasiertes Tes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71800" y="3440160"/>
            <a:ext cx="39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Verdana"/>
              </a:rPr>
              <a:t>s. Ausführungen Mecht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-2332080"/>
            <a:ext cx="9144000" cy="5470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7162920" y="380880"/>
            <a:ext cx="1954080" cy="7779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6159240" y="444600"/>
            <a:ext cx="29520" cy="122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c2435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940520" y="1281240"/>
            <a:ext cx="28800" cy="36360"/>
          </a:xfrm>
          <a:custGeom>
            <a:avLst/>
            <a:gdLst/>
            <a:ahLst/>
            <a:rect l="l" t="t" r="r" b="b"/>
            <a:pathLst>
              <a:path w="16" h="16">
                <a:moveTo>
                  <a:pt x="0" y="0"/>
                </a:move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16" y="8"/>
                </a:lnTo>
                <a:lnTo>
                  <a:pt x="16" y="8"/>
                </a:lnTo>
                <a:lnTo>
                  <a:pt x="16" y="8"/>
                </a:lnTo>
                <a:lnTo>
                  <a:pt x="16" y="8"/>
                </a:lnTo>
                <a:lnTo>
                  <a:pt x="16" y="16"/>
                </a:lnTo>
              </a:path>
            </a:pathLst>
          </a:custGeom>
          <a:solidFill>
            <a:srgbClr val="ffffcc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0920" y="395280"/>
            <a:ext cx="806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a50021"/>
                </a:solidFill>
                <a:latin typeface="Verdana"/>
              </a:rPr>
              <a:t>Herausforderungen bei der Pilo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a50021"/>
                </a:solidFill>
                <a:latin typeface="Verdana"/>
              </a:rPr>
              <a:t>tierung großer Itemme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a50021"/>
                </a:solidFill>
                <a:latin typeface="Verdana"/>
              </a:rPr>
              <a:t>Komplexe Multi-Matrix-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2205000"/>
            <a:ext cx="8713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120000"/>
              </a:lnSpc>
              <a:spcBef>
                <a:spcPts val="1250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50021"/>
                </a:solidFill>
                <a:latin typeface="Verdana"/>
              </a:rPr>
              <a:t>Ausgangspunkt: Große Aufgabenmengen, die simultan pilotiert und gemeinsam skaliert werden müss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lnSpc>
                <a:spcPct val="120000"/>
              </a:lnSpc>
              <a:spcBef>
                <a:spcPts val="1250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50021"/>
                </a:solidFill>
                <a:latin typeface="Verdana"/>
              </a:rPr>
              <a:t>Herausforderung: Entwicklung eines Testdesigns, das die Schüler nicht überlastet, hinreichend hohe Schülerzahlen (zwischen 400 und 700) pro Aufgabe erlaubt und gleichzeitig eine Verlinkung zwischen den Aufgaben siche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lnSpc>
                <a:spcPct val="120000"/>
              </a:lnSpc>
              <a:spcBef>
                <a:spcPts val="1250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50021"/>
                </a:solidFill>
                <a:latin typeface="Verdana"/>
              </a:rPr>
              <a:t>Lösung: Komplexe Ankeritem-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-2332080"/>
            <a:ext cx="9144000" cy="54705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7162920" y="380880"/>
            <a:ext cx="1954080" cy="7779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159240" y="444600"/>
            <a:ext cx="29520" cy="122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c2435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940520" y="1281240"/>
            <a:ext cx="28800" cy="36360"/>
          </a:xfrm>
          <a:custGeom>
            <a:avLst/>
            <a:gdLst/>
            <a:ahLst/>
            <a:rect l="l" t="t" r="r" b="b"/>
            <a:pathLst>
              <a:path w="16" h="16">
                <a:moveTo>
                  <a:pt x="0" y="0"/>
                </a:move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16" y="8"/>
                </a:lnTo>
                <a:lnTo>
                  <a:pt x="16" y="8"/>
                </a:lnTo>
                <a:lnTo>
                  <a:pt x="16" y="8"/>
                </a:lnTo>
                <a:lnTo>
                  <a:pt x="16" y="8"/>
                </a:lnTo>
                <a:lnTo>
                  <a:pt x="16" y="16"/>
                </a:lnTo>
              </a:path>
            </a:pathLst>
          </a:custGeom>
          <a:solidFill>
            <a:srgbClr val="ffffcc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0920" y="395280"/>
            <a:ext cx="806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a50021"/>
                </a:solidFill>
                <a:latin typeface="Verdana"/>
              </a:rPr>
              <a:t>Beispiel: Standardpilotierung 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a50021"/>
                </a:solidFill>
                <a:latin typeface="Verdana"/>
              </a:rPr>
              <a:t>Grundschulbereich: ca. 1.80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a50021"/>
                </a:solidFill>
                <a:latin typeface="Verdana"/>
              </a:rPr>
              <a:t>Deutsch- und Mathematikit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1989000"/>
            <a:ext cx="8713800" cy="52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110000"/>
              </a:lnSpc>
              <a:spcBef>
                <a:spcPts val="75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Verdana"/>
              </a:rPr>
              <a:t>Stichprobe von rund 400 Schu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lnSpc>
                <a:spcPct val="110000"/>
              </a:lnSpc>
              <a:spcBef>
                <a:spcPts val="75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Verdana"/>
              </a:rPr>
              <a:t>Jeweils eine dritte und eine vierte Kla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lnSpc>
                <a:spcPct val="110000"/>
              </a:lnSpc>
              <a:spcBef>
                <a:spcPts val="75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Verdana"/>
              </a:rPr>
              <a:t>Gesamtstichprobe: ca. 18.000 Ki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lnSpc>
                <a:spcPct val="110000"/>
              </a:lnSpc>
              <a:spcBef>
                <a:spcPts val="75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Verdana"/>
              </a:rPr>
              <a:t>Aufteilung der Schulen au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-173160">
              <a:lnSpc>
                <a:spcPct val="110000"/>
              </a:lnSpc>
              <a:spcBef>
                <a:spcPts val="675"/>
              </a:spcBef>
              <a:buClr>
                <a:srgbClr val="a50021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Verdana"/>
              </a:rPr>
              <a:t>Ein Drittel nur Mathemati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-173160">
              <a:lnSpc>
                <a:spcPct val="110000"/>
              </a:lnSpc>
              <a:spcBef>
                <a:spcPts val="675"/>
              </a:spcBef>
              <a:buClr>
                <a:srgbClr val="a50021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Verdana"/>
              </a:rPr>
              <a:t>Ein Drittel nur Deuts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-173160">
              <a:lnSpc>
                <a:spcPct val="110000"/>
              </a:lnSpc>
              <a:spcBef>
                <a:spcPts val="675"/>
              </a:spcBef>
              <a:buClr>
                <a:srgbClr val="a50021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Verdana"/>
              </a:rPr>
              <a:t>Ein Drittel Mathematik und Deuts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lnSpc>
                <a:spcPct val="110000"/>
              </a:lnSpc>
              <a:spcBef>
                <a:spcPts val="75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Verdana"/>
              </a:rPr>
              <a:t>Testung in vier (bzw. zwei) aufeinander folgenden 20-Minuten-Testheftteilen á 2 10-Minuten-Blöc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lnSpc>
                <a:spcPct val="110000"/>
              </a:lnSpc>
              <a:spcBef>
                <a:spcPts val="75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Verdana"/>
              </a:rPr>
              <a:t>Verlinkung von dritter und vierter Jahrgangsstu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lnSpc>
                <a:spcPct val="110000"/>
              </a:lnSpc>
              <a:spcBef>
                <a:spcPts val="75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-173160">
              <a:lnSpc>
                <a:spcPct val="110000"/>
              </a:lnSpc>
              <a:spcBef>
                <a:spcPts val="75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0" y="-2332080"/>
            <a:ext cx="9144000" cy="54705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7162920" y="380880"/>
            <a:ext cx="1954080" cy="7779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6159240" y="444600"/>
            <a:ext cx="29520" cy="122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c2435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940520" y="1281240"/>
            <a:ext cx="28800" cy="36360"/>
          </a:xfrm>
          <a:custGeom>
            <a:avLst/>
            <a:gdLst/>
            <a:ahLst/>
            <a:rect l="l" t="t" r="r" b="b"/>
            <a:pathLst>
              <a:path w="16" h="16">
                <a:moveTo>
                  <a:pt x="0" y="0"/>
                </a:move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16" y="8"/>
                </a:lnTo>
                <a:lnTo>
                  <a:pt x="16" y="8"/>
                </a:lnTo>
                <a:lnTo>
                  <a:pt x="16" y="8"/>
                </a:lnTo>
                <a:lnTo>
                  <a:pt x="16" y="8"/>
                </a:lnTo>
                <a:lnTo>
                  <a:pt x="16" y="16"/>
                </a:lnTo>
              </a:path>
            </a:pathLst>
          </a:custGeom>
          <a:solidFill>
            <a:srgbClr val="ffffcc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0920" y="39528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Verdana"/>
              </a:rPr>
              <a:t>Testdesign in Mathemat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Verdana"/>
              </a:rPr>
              <a:t>Herausforderung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95280" y="2193840"/>
            <a:ext cx="8280360" cy="35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10000"/>
              </a:lnSpc>
              <a:spcBef>
                <a:spcPts val="10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a50021"/>
                </a:solidFill>
                <a:latin typeface="Verdana"/>
              </a:rPr>
              <a:t>Verlinkung von dritter und vierter Klassenstu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10000"/>
              </a:lnSpc>
              <a:spcBef>
                <a:spcPts val="10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a50021"/>
                </a:solidFill>
                <a:latin typeface="Verdana"/>
              </a:rPr>
              <a:t>Verlinkung von Deutsch und Mathemati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10000"/>
              </a:lnSpc>
              <a:spcBef>
                <a:spcPts val="10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a50021"/>
                </a:solidFill>
                <a:latin typeface="Verdana"/>
              </a:rPr>
              <a:t>Verlinkung der fünf inhaltlichen Kompetenzbereiche I-1 bis I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10000"/>
              </a:lnSpc>
              <a:spcBef>
                <a:spcPts val="10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a50021"/>
                </a:solidFill>
                <a:latin typeface="Verdana"/>
              </a:rPr>
              <a:t>Verlinkung der Aufgaben innerhalb eines Kompetenzbereic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10000"/>
              </a:lnSpc>
              <a:spcBef>
                <a:spcPts val="10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a50021"/>
                </a:solidFill>
                <a:latin typeface="Verdana"/>
              </a:rPr>
              <a:t>Verlinkung mit VERA- und IGLU- Aufgab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10000"/>
              </a:lnSpc>
              <a:spcBef>
                <a:spcPts val="10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a50021"/>
                </a:solidFill>
                <a:latin typeface="Verdana"/>
              </a:rPr>
              <a:t>Rotation der Aufgaben innerhalb der Testhefte (Kontrolle von Positionseffekt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10000"/>
              </a:lnSpc>
              <a:spcBef>
                <a:spcPts val="10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a50021"/>
                </a:solidFill>
                <a:latin typeface="Verdana"/>
              </a:rPr>
              <a:t>Rotation verschiedener Testhefte innerhalb einer Klass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-2332080"/>
            <a:ext cx="9144000" cy="54705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7162920" y="380880"/>
            <a:ext cx="1954080" cy="7779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159240" y="444600"/>
            <a:ext cx="29520" cy="122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c2435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940520" y="1281240"/>
            <a:ext cx="28800" cy="36360"/>
          </a:xfrm>
          <a:custGeom>
            <a:avLst/>
            <a:gdLst/>
            <a:ahLst/>
            <a:rect l="l" t="t" r="r" b="b"/>
            <a:pathLst>
              <a:path w="16" h="16">
                <a:moveTo>
                  <a:pt x="0" y="0"/>
                </a:move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16" y="8"/>
                </a:lnTo>
                <a:lnTo>
                  <a:pt x="16" y="8"/>
                </a:lnTo>
                <a:lnTo>
                  <a:pt x="16" y="8"/>
                </a:lnTo>
                <a:lnTo>
                  <a:pt x="16" y="8"/>
                </a:lnTo>
                <a:lnTo>
                  <a:pt x="16" y="16"/>
                </a:lnTo>
              </a:path>
            </a:pathLst>
          </a:custGeom>
          <a:solidFill>
            <a:srgbClr val="ffffcc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0920" y="39528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a50021"/>
                </a:solidFill>
                <a:latin typeface="Verdana"/>
              </a:rPr>
              <a:t>Testdesign in Mathemat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a50021"/>
                </a:solidFill>
                <a:latin typeface="Verdana"/>
              </a:rPr>
              <a:t>in Klasse 3 (18 Testversionen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826920" y="1557360"/>
          <a:ext cx="7345440" cy="5187960"/>
        </p:xfrm>
        <a:graphic>
          <a:graphicData uri="http://schemas.openxmlformats.org/drawingml/2006/table">
            <a:tbl>
              <a:tblPr/>
              <a:tblGrid>
                <a:gridCol w="847800"/>
                <a:gridCol w="811440"/>
                <a:gridCol w="812520"/>
                <a:gridCol w="812880"/>
                <a:gridCol w="812880"/>
                <a:gridCol w="809640"/>
                <a:gridCol w="812880"/>
                <a:gridCol w="812520"/>
                <a:gridCol w="812880"/>
              </a:tblGrid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 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 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 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 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 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 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 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 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/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/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/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/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/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/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/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/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/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/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/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/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/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/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/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/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/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/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/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/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/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/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/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/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/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/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/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/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/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/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/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/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/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/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/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/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/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/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/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/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/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/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/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-2259000"/>
            <a:ext cx="9144000" cy="54705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7162920" y="380880"/>
            <a:ext cx="1954080" cy="7779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24000" y="260280"/>
            <a:ext cx="828036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Verdana"/>
              </a:rPr>
              <a:t>Probleme der engen Anbind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Verdana"/>
              </a:rPr>
              <a:t>der Qualitätssicherung an inter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Verdana"/>
              </a:rPr>
              <a:t>nationale Studi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79280" y="1773360"/>
            <a:ext cx="8569440" cy="50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15000"/>
              </a:lnSpc>
              <a:spcBef>
                <a:spcPts val="374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Verdana"/>
              </a:rPr>
              <a:t>Design der Studien wird sehr stark durch internationale Vorgaben bestimm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9640" indent="-179280">
              <a:lnSpc>
                <a:spcPct val="115000"/>
              </a:lnSpc>
              <a:spcBef>
                <a:spcPts val="337"/>
              </a:spcBef>
              <a:buClr>
                <a:srgbClr val="a50021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Verdana"/>
              </a:rPr>
              <a:t>Instrumente sind nicht explizit auf Ziele des deutschen Systems abgestimm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9640" indent="-179280">
              <a:lnSpc>
                <a:spcPct val="115000"/>
              </a:lnSpc>
              <a:spcBef>
                <a:spcPts val="337"/>
              </a:spcBef>
              <a:buClr>
                <a:srgbClr val="a50021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Verdana"/>
              </a:rPr>
              <a:t>Bereiche decken sich nicht mit den Bildungsstanda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15000"/>
              </a:lnSpc>
              <a:spcBef>
                <a:spcPts val="374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Verdana"/>
              </a:rPr>
              <a:t>Zyklus nach internationalen Vorgab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9640" indent="-179280">
              <a:lnSpc>
                <a:spcPct val="115000"/>
              </a:lnSpc>
              <a:spcBef>
                <a:spcPts val="337"/>
              </a:spcBef>
              <a:buClr>
                <a:srgbClr val="a50021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Verdana"/>
              </a:rPr>
              <a:t>Berichterstattung an internationale Vorgaben gebun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9640" indent="-179280">
              <a:lnSpc>
                <a:spcPct val="115000"/>
              </a:lnSpc>
              <a:spcBef>
                <a:spcPts val="337"/>
              </a:spcBef>
              <a:buClr>
                <a:srgbClr val="a50021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Verdana"/>
              </a:rPr>
              <a:t>Sehr später Bericht des nationalen Vergleic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9640" indent="-179280">
              <a:lnSpc>
                <a:spcPct val="115000"/>
              </a:lnSpc>
              <a:spcBef>
                <a:spcPts val="337"/>
              </a:spcBef>
              <a:buClr>
                <a:srgbClr val="a50021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Verdana"/>
              </a:rPr>
              <a:t>In PISA zu kurze Intervalle zwischen den Erhebu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2440" indent="-263520">
              <a:lnSpc>
                <a:spcPct val="115000"/>
              </a:lnSpc>
              <a:spcBef>
                <a:spcPts val="337"/>
              </a:spcBef>
              <a:buClr>
                <a:srgbClr val="a50021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Verdana"/>
              </a:rPr>
              <a:t>keine Zeit auf die Befunde angemessen (mit Reformen) reagieren zu könn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2440" indent="-263520">
              <a:lnSpc>
                <a:spcPct val="115000"/>
              </a:lnSpc>
              <a:spcBef>
                <a:spcPts val="337"/>
              </a:spcBef>
              <a:buClr>
                <a:srgbClr val="a50021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Verdana"/>
              </a:rPr>
              <a:t>Wissenschaftler haben wenig Zeit, Optimierungen auf der Basis der Befunde umzusetz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2440" indent="-263520">
              <a:lnSpc>
                <a:spcPct val="115000"/>
              </a:lnSpc>
              <a:spcBef>
                <a:spcPts val="337"/>
              </a:spcBef>
              <a:buClr>
                <a:srgbClr val="a50021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Verdana"/>
              </a:rPr>
              <a:t>Effekte von Reformen bleiben unsichtb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-2259000"/>
            <a:ext cx="9144000" cy="54705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162920" y="380880"/>
            <a:ext cx="1954080" cy="777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24000" y="53820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Verdana"/>
              </a:rPr>
              <a:t>Bildungsstandards in einer KMK-Gesamtstrategie der Qualitätssicher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79280" y="2060640"/>
            <a:ext cx="8569440" cy="43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2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50021"/>
                </a:solidFill>
                <a:latin typeface="Verdana"/>
              </a:rPr>
              <a:t>Beteiligung an internationalen Studien (internationales Benchmark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9640" indent="-179280">
              <a:lnSpc>
                <a:spcPct val="120000"/>
              </a:lnSpc>
              <a:spcBef>
                <a:spcPts val="451"/>
              </a:spcBef>
              <a:buClr>
                <a:srgbClr val="a50021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a50021"/>
                </a:solidFill>
                <a:latin typeface="Verdana"/>
              </a:rPr>
              <a:t>PISA in der Sekundarstufe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9640" indent="-179280">
              <a:lnSpc>
                <a:spcPct val="120000"/>
              </a:lnSpc>
              <a:spcBef>
                <a:spcPts val="451"/>
              </a:spcBef>
              <a:buClr>
                <a:srgbClr val="a50021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a50021"/>
                </a:solidFill>
                <a:latin typeface="Verdana"/>
              </a:rPr>
              <a:t>PIRLS und TIMSS in der Grundsch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50021"/>
                </a:solidFill>
                <a:latin typeface="Verdana"/>
              </a:rPr>
              <a:t>Nationaler Vergleich (Ländervergleich) auf der Basis der länderübergreifenden Bildungsstanda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9640" indent="-179280">
              <a:lnSpc>
                <a:spcPct val="120000"/>
              </a:lnSpc>
              <a:spcBef>
                <a:spcPts val="451"/>
              </a:spcBef>
              <a:buClr>
                <a:srgbClr val="a50021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a50021"/>
                </a:solidFill>
                <a:latin typeface="Verdana"/>
              </a:rPr>
              <a:t>Dabei internationale Verankerung soweit wie mögli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9640" indent="-179280">
              <a:lnSpc>
                <a:spcPct val="120000"/>
              </a:lnSpc>
              <a:spcBef>
                <a:spcPts val="451"/>
              </a:spcBef>
              <a:buClr>
                <a:srgbClr val="a50021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a50021"/>
                </a:solidFill>
                <a:latin typeface="Verdana"/>
              </a:rPr>
              <a:t>Rhythmisierung kompatibel zu den internationalen Studi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50021"/>
                </a:solidFill>
                <a:latin typeface="Verdana"/>
              </a:rPr>
              <a:t>Flächendeckende Vergleichsarbeiten zum Zwecke der intermediären Feststellung von Leistungsständen; Anbindung an die Bildungsstanda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-2286000"/>
            <a:ext cx="9144000" cy="54705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7162920" y="380880"/>
            <a:ext cx="1954080" cy="7779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04920" y="40464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Verdana"/>
                <a:ea typeface="Times New Roman"/>
              </a:rPr>
              <a:t>Rhythmisierung des internationa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Verdana"/>
                <a:ea typeface="Times New Roman"/>
              </a:rPr>
              <a:t>und nationalen Vergleichs in 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Verdana"/>
                <a:ea typeface="Times New Roman"/>
              </a:rPr>
              <a:t>Grundsch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1989000"/>
            <a:ext cx="8353440" cy="44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115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50021"/>
                </a:solidFill>
                <a:latin typeface="Verdana"/>
              </a:rPr>
              <a:t>Problem: Fünf-Jahres-Zyklus von PIRLS, Vier-Jahres-Zyklus von TIM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lnSpc>
                <a:spcPct val="115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50021"/>
                </a:solidFill>
                <a:latin typeface="Verdana"/>
              </a:rPr>
              <a:t>Entscheidung: Generelle Anbindung des nationalen Vergleichs an den PIRLS-Zykl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lnSpc>
                <a:spcPct val="115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50021"/>
                </a:solidFill>
                <a:latin typeface="Verdana"/>
              </a:rPr>
              <a:t>Ländervergleich am Ende der 3. Jahrgangsstuf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lnSpc>
                <a:spcPct val="115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50021"/>
                </a:solidFill>
                <a:latin typeface="Verdana"/>
              </a:rPr>
              <a:t>Folge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 indent="-355680">
              <a:lnSpc>
                <a:spcPct val="115000"/>
              </a:lnSpc>
              <a:spcBef>
                <a:spcPts val="451"/>
              </a:spcBef>
              <a:buClr>
                <a:srgbClr val="a50021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a50021"/>
                </a:solidFill>
                <a:latin typeface="Verdana"/>
              </a:rPr>
              <a:t>Automatische Verlinkung zwischen nationalen und internationalen Lese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 indent="-355680">
              <a:lnSpc>
                <a:spcPct val="115000"/>
              </a:lnSpc>
              <a:spcBef>
                <a:spcPts val="451"/>
              </a:spcBef>
              <a:buClr>
                <a:srgbClr val="a50021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a50021"/>
                </a:solidFill>
                <a:latin typeface="Verdana"/>
              </a:rPr>
              <a:t>Verlinkung der nationalen Mathematikitems über eine kleine Zusatzerhebung in TIM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 indent="-355680">
              <a:lnSpc>
                <a:spcPct val="115000"/>
              </a:lnSpc>
              <a:spcBef>
                <a:spcPts val="451"/>
              </a:spcBef>
              <a:buClr>
                <a:srgbClr val="a50021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a50021"/>
                </a:solidFill>
                <a:latin typeface="Verdana"/>
              </a:rPr>
              <a:t>Gemeinsamer Bericht des internationalen Vergleichs (PIRLS) mit dem Ländervergleich (Deutsch und Mathemati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-2286000"/>
            <a:ext cx="9144000" cy="547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7162920" y="380880"/>
            <a:ext cx="1954080" cy="7779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04920" y="40464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Verdana"/>
                <a:ea typeface="Times New Roman"/>
              </a:rPr>
              <a:t>Rhythmisierung des internationa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Verdana"/>
                <a:ea typeface="Times New Roman"/>
              </a:rPr>
              <a:t>und nationalen Vergleichs in 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Verdana"/>
                <a:ea typeface="Times New Roman"/>
              </a:rPr>
              <a:t>Sekundarstufe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0920" y="1982880"/>
            <a:ext cx="889308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spcBef>
                <a:spcPts val="24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50021"/>
                </a:solidFill>
                <a:latin typeface="Verdana"/>
              </a:rPr>
              <a:t>Problem: zu kurzer Drei-Jahres-Zyklus von PI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spcBef>
                <a:spcPts val="24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50021"/>
                </a:solidFill>
                <a:latin typeface="Verdana"/>
              </a:rPr>
              <a:t>Entscheidu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 indent="-355680">
              <a:lnSpc>
                <a:spcPct val="100000"/>
              </a:lnSpc>
              <a:spcBef>
                <a:spcPts val="224"/>
              </a:spcBef>
              <a:buClr>
                <a:srgbClr val="a50021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a50021"/>
                </a:solidFill>
                <a:latin typeface="Verdana"/>
              </a:rPr>
              <a:t>Sechs-Jahres-Zyklus beim Ländervergleich auf der Basis der Bildungsstanda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 indent="-355680">
              <a:lnSpc>
                <a:spcPct val="100000"/>
              </a:lnSpc>
              <a:spcBef>
                <a:spcPts val="224"/>
              </a:spcBef>
              <a:buClr>
                <a:srgbClr val="a50021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a50021"/>
                </a:solidFill>
                <a:latin typeface="Verdana"/>
              </a:rPr>
              <a:t>Ländervergleiche am Ende der 8. Jahrgangsstufe (Hauptschulabschluss) und der 9. Jahrgangsstufe (Mittlerer Schulabschlu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 indent="-355680">
              <a:lnSpc>
                <a:spcPct val="100000"/>
              </a:lnSpc>
              <a:spcBef>
                <a:spcPts val="224"/>
              </a:spcBef>
              <a:buClr>
                <a:srgbClr val="a50021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a50021"/>
                </a:solidFill>
                <a:latin typeface="Verdana"/>
              </a:rPr>
              <a:t>Aufteilung in zwei Fächergrup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51080" indent="-187560">
              <a:lnSpc>
                <a:spcPct val="100000"/>
              </a:lnSpc>
              <a:spcBef>
                <a:spcPts val="201"/>
              </a:spcBef>
              <a:buClr>
                <a:srgbClr val="a50021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50021"/>
                </a:solidFill>
                <a:latin typeface="Verdana"/>
              </a:rPr>
              <a:t>Deutsch, Englisch, Französis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51080" indent="-187560">
              <a:lnSpc>
                <a:spcPct val="100000"/>
              </a:lnSpc>
              <a:spcBef>
                <a:spcPts val="201"/>
              </a:spcBef>
              <a:buClr>
                <a:srgbClr val="a50021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50021"/>
                </a:solidFill>
                <a:latin typeface="Verdana"/>
              </a:rPr>
              <a:t>Mathematik, Physik, Chemie, Biolog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 indent="-355680">
              <a:lnSpc>
                <a:spcPct val="100000"/>
              </a:lnSpc>
              <a:spcBef>
                <a:spcPts val="224"/>
              </a:spcBef>
              <a:buClr>
                <a:srgbClr val="a50021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a50021"/>
                </a:solidFill>
                <a:latin typeface="Verdana"/>
              </a:rPr>
              <a:t>Anbindung jeder Fächergruppe alle sechs Jahre an P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spcBef>
                <a:spcPts val="24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50021"/>
                </a:solidFill>
                <a:latin typeface="Verdana"/>
              </a:rPr>
              <a:t>Folge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 indent="-355680">
              <a:lnSpc>
                <a:spcPct val="100000"/>
              </a:lnSpc>
              <a:spcBef>
                <a:spcPts val="224"/>
              </a:spcBef>
              <a:buClr>
                <a:srgbClr val="a50021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a50021"/>
                </a:solidFill>
                <a:latin typeface="Verdana"/>
              </a:rPr>
              <a:t>Automatische Verlinkung zwischen nationalen und internationalen Lese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 indent="-355680">
              <a:lnSpc>
                <a:spcPct val="100000"/>
              </a:lnSpc>
              <a:spcBef>
                <a:spcPts val="224"/>
              </a:spcBef>
              <a:buClr>
                <a:srgbClr val="a50021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a50021"/>
                </a:solidFill>
                <a:latin typeface="Verdana"/>
              </a:rPr>
              <a:t>Automatische Verlinkung zwischen nationalen und internationalen Mathematik- und Naturwissenschafts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716360" y="3816360"/>
            <a:ext cx="3600720" cy="304164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16000" y="3527280"/>
            <a:ext cx="3600360" cy="33577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-2286000"/>
            <a:ext cx="9144000" cy="54705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7162920" y="380880"/>
            <a:ext cx="1954080" cy="7779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159240" y="444600"/>
            <a:ext cx="29520" cy="122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c2435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940520" y="1281240"/>
            <a:ext cx="28800" cy="36360"/>
          </a:xfrm>
          <a:custGeom>
            <a:avLst/>
            <a:gdLst/>
            <a:ahLst/>
            <a:rect l="l" t="t" r="r" b="b"/>
            <a:pathLst>
              <a:path w="16" h="16">
                <a:moveTo>
                  <a:pt x="0" y="0"/>
                </a:move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16" y="8"/>
                </a:lnTo>
                <a:lnTo>
                  <a:pt x="16" y="8"/>
                </a:lnTo>
                <a:lnTo>
                  <a:pt x="16" y="8"/>
                </a:lnTo>
                <a:lnTo>
                  <a:pt x="16" y="8"/>
                </a:lnTo>
                <a:lnTo>
                  <a:pt x="16" y="16"/>
                </a:lnTo>
              </a:path>
            </a:pathLst>
          </a:custGeom>
          <a:solidFill>
            <a:srgbClr val="ffffcc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546120" y="1990800"/>
          <a:ext cx="8567640" cy="49561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46120" y="1990800"/>
                    <a:ext cx="8567640" cy="49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324000" y="187200"/>
            <a:ext cx="712764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Verdana"/>
              </a:rPr>
              <a:t>Erhebungen und Berichterstattungen von 2006 bis 2019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Verdana"/>
              </a:rPr>
              <a:t>Fünfjahresrhythmus in der Grundschule, Sechsjahresrhythmus in der Sekundarstufe I</a:t>
            </a: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-2332080"/>
            <a:ext cx="9144000" cy="54705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7162920" y="380880"/>
            <a:ext cx="1954080" cy="7779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159240" y="444600"/>
            <a:ext cx="29520" cy="122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c2435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940520" y="1281240"/>
            <a:ext cx="28800" cy="36360"/>
          </a:xfrm>
          <a:custGeom>
            <a:avLst/>
            <a:gdLst/>
            <a:ahLst/>
            <a:rect l="l" t="t" r="r" b="b"/>
            <a:pathLst>
              <a:path w="16" h="16">
                <a:moveTo>
                  <a:pt x="0" y="0"/>
                </a:move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16" y="8"/>
                </a:lnTo>
                <a:lnTo>
                  <a:pt x="16" y="8"/>
                </a:lnTo>
                <a:lnTo>
                  <a:pt x="16" y="8"/>
                </a:lnTo>
                <a:lnTo>
                  <a:pt x="16" y="8"/>
                </a:lnTo>
                <a:lnTo>
                  <a:pt x="16" y="16"/>
                </a:lnTo>
              </a:path>
            </a:pathLst>
          </a:custGeom>
          <a:solidFill>
            <a:srgbClr val="ffffcc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39528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Verdana"/>
              </a:rPr>
              <a:t>Zukünftige Berichterstattung des Ländervergleic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0920" y="2205000"/>
            <a:ext cx="871380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120000"/>
              </a:lnSpc>
              <a:spcBef>
                <a:spcPts val="1250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Verdana"/>
              </a:rPr>
              <a:t>Schlanker und Adressatengerecht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lnSpc>
                <a:spcPct val="120000"/>
              </a:lnSpc>
              <a:spcBef>
                <a:spcPts val="1250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Verdana"/>
              </a:rPr>
              <a:t>Anlehnung an Formate, wie sie beispielsweise in NAEP verwendet werden (Hochglanzbroschü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lnSpc>
                <a:spcPct val="120000"/>
              </a:lnSpc>
              <a:spcBef>
                <a:spcPts val="1250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Verdana"/>
              </a:rPr>
              <a:t>Kernthe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-173160">
              <a:lnSpc>
                <a:spcPct val="120000"/>
              </a:lnSpc>
              <a:spcBef>
                <a:spcPts val="499"/>
              </a:spcBef>
              <a:buClr>
                <a:srgbClr val="a50021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Verdana"/>
              </a:rPr>
              <a:t>Länderunterschie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-173160">
              <a:lnSpc>
                <a:spcPct val="120000"/>
              </a:lnSpc>
              <a:spcBef>
                <a:spcPts val="499"/>
              </a:spcBef>
              <a:buClr>
                <a:srgbClr val="a50021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Verdana"/>
              </a:rPr>
              <a:t>soziale und ethnische Disparitäten, Geschlechtsdifferenz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720" indent="-173160">
              <a:lnSpc>
                <a:spcPct val="120000"/>
              </a:lnSpc>
              <a:spcBef>
                <a:spcPts val="499"/>
              </a:spcBef>
              <a:buClr>
                <a:srgbClr val="a50021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Verdana"/>
              </a:rPr>
              <a:t>Differenzen zwischen Bildungsgängen, die denselben Bildungsabschluss vergeb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7020000" y="1052640"/>
            <a:ext cx="1644480" cy="17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-2332080"/>
            <a:ext cx="9144000" cy="54705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7162920" y="380880"/>
            <a:ext cx="1954080" cy="7779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159240" y="444600"/>
            <a:ext cx="29520" cy="122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c2435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940520" y="1281240"/>
            <a:ext cx="28800" cy="36360"/>
          </a:xfrm>
          <a:custGeom>
            <a:avLst/>
            <a:gdLst/>
            <a:ahLst/>
            <a:rect l="l" t="t" r="r" b="b"/>
            <a:pathLst>
              <a:path w="16" h="16">
                <a:moveTo>
                  <a:pt x="0" y="0"/>
                </a:move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16" y="8"/>
                </a:lnTo>
                <a:lnTo>
                  <a:pt x="16" y="8"/>
                </a:lnTo>
                <a:lnTo>
                  <a:pt x="16" y="8"/>
                </a:lnTo>
                <a:lnTo>
                  <a:pt x="16" y="8"/>
                </a:lnTo>
                <a:lnTo>
                  <a:pt x="16" y="16"/>
                </a:lnTo>
              </a:path>
            </a:pathLst>
          </a:custGeom>
          <a:solidFill>
            <a:srgbClr val="ffffcc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0920" y="53820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Verdana"/>
              </a:rPr>
              <a:t>Konsequenzen für das IQ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0920" y="2205000"/>
            <a:ext cx="8713800" cy="40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120000"/>
              </a:lnSpc>
              <a:spcBef>
                <a:spcPts val="1250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Verdana"/>
              </a:rPr>
              <a:t>Zügige Bereitstellung von nationalen Skalen zu den Bildungsstandar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lnSpc>
                <a:spcPct val="120000"/>
              </a:lnSpc>
              <a:spcBef>
                <a:spcPts val="1250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Verdana"/>
              </a:rPr>
              <a:t>Fortentwicklung der Itemp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lnSpc>
                <a:spcPct val="120000"/>
              </a:lnSpc>
              <a:spcBef>
                <a:spcPts val="1250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Verdana"/>
              </a:rPr>
              <a:t>Übernahme des Ländervergleichs ab 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lnSpc>
                <a:spcPct val="120000"/>
              </a:lnSpc>
              <a:spcBef>
                <a:spcPts val="1250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Verdana"/>
              </a:rPr>
              <a:t>Enge Abstimmung mit den Qualitätsagenturen der Länder und Herstellung von Synergien bei den flächendeckenden Vergleichsarbei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lnSpc>
                <a:spcPct val="120000"/>
              </a:lnSpc>
              <a:spcBef>
                <a:spcPts val="1250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Verdana"/>
              </a:rPr>
              <a:t>Gemeinsame Pilotierung und Normierung der Aufgaben aus dem IQB und den Lände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-2332080"/>
            <a:ext cx="9144000" cy="54705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7162920" y="380880"/>
            <a:ext cx="1954080" cy="7779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159240" y="444600"/>
            <a:ext cx="29520" cy="122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c2435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940520" y="1281240"/>
            <a:ext cx="28800" cy="36360"/>
          </a:xfrm>
          <a:custGeom>
            <a:avLst/>
            <a:gdLst/>
            <a:ahLst/>
            <a:rect l="l" t="t" r="r" b="b"/>
            <a:pathLst>
              <a:path w="16" h="16">
                <a:moveTo>
                  <a:pt x="0" y="0"/>
                </a:move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16" y="8"/>
                </a:lnTo>
                <a:lnTo>
                  <a:pt x="16" y="8"/>
                </a:lnTo>
                <a:lnTo>
                  <a:pt x="16" y="8"/>
                </a:lnTo>
                <a:lnTo>
                  <a:pt x="16" y="8"/>
                </a:lnTo>
                <a:lnTo>
                  <a:pt x="16" y="16"/>
                </a:lnTo>
              </a:path>
            </a:pathLst>
          </a:custGeom>
          <a:solidFill>
            <a:srgbClr val="ffffcc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39528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Verdana"/>
              </a:rPr>
              <a:t>Derzeitiger Arbeitsstand am IQ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Verdana"/>
              </a:rPr>
              <a:t>Grundsch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8280" y="4062240"/>
            <a:ext cx="8748720" cy="576360"/>
          </a:xfrm>
          <a:prstGeom prst="rightArrow">
            <a:avLst>
              <a:gd name="adj1" fmla="val 50000"/>
              <a:gd name="adj2" fmla="val 379482"/>
            </a:avLst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4280" y="5254560"/>
            <a:ext cx="21985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Verdana"/>
              </a:rPr>
              <a:t>Juli 2005 bi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Verdana"/>
              </a:rPr>
              <a:t>Januar 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Verdana"/>
              </a:rPr>
              <a:t>Entwicklung von 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Verdana"/>
              </a:rPr>
              <a:t>900 Deutsch- 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Verdana"/>
              </a:rPr>
              <a:t>900 Mathematik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Verdana"/>
              </a:rPr>
              <a:t>aufgab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57320" y="3559320"/>
            <a:ext cx="0" cy="647640"/>
          </a:xfrm>
          <a:prstGeom prst="line">
            <a:avLst/>
          </a:prstGeom>
          <a:ln w="158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08160" y="2000160"/>
            <a:ext cx="17078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Verdana"/>
              </a:rPr>
              <a:t>April bis Jun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Verdana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Verdana"/>
              </a:rPr>
              <a:t>Pilotierung 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Verdana"/>
              </a:rPr>
              <a:t>Aufgaben i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Verdana"/>
              </a:rPr>
              <a:t>Rahmen v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Verdana"/>
              </a:rPr>
              <a:t>PIRLS/IGL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55800" y="5240160"/>
            <a:ext cx="21207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990000"/>
                </a:solidFill>
                <a:latin typeface="Verdana"/>
              </a:rPr>
              <a:t>Frühjahr 2007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990000"/>
                </a:solidFill>
                <a:latin typeface="Verdana"/>
              </a:rPr>
              <a:t>Normierung 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990000"/>
                </a:solidFill>
                <a:latin typeface="Verdana"/>
              </a:rPr>
              <a:t>Aufgaben; Bereit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990000"/>
                </a:solidFill>
                <a:latin typeface="Verdana"/>
              </a:rPr>
              <a:t>stellung nationa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990000"/>
                </a:solidFill>
                <a:latin typeface="Verdana"/>
              </a:rPr>
              <a:t>Skal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783480" y="3559320"/>
            <a:ext cx="0" cy="647640"/>
          </a:xfrm>
          <a:prstGeom prst="line">
            <a:avLst/>
          </a:prstGeom>
          <a:ln w="158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61320" y="2406600"/>
            <a:ext cx="1873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Verdana"/>
              </a:rPr>
              <a:t>Frühjahr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Verdana"/>
              </a:rPr>
              <a:t>Ländervergle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Verdana"/>
              </a:rPr>
              <a:t>auf der Basis 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Verdana"/>
              </a:rPr>
              <a:t>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42920" y="4510080"/>
            <a:ext cx="0" cy="647640"/>
          </a:xfrm>
          <a:prstGeom prst="line">
            <a:avLst/>
          </a:prstGeom>
          <a:ln w="158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5200" y="4510080"/>
            <a:ext cx="0" cy="647640"/>
          </a:xfrm>
          <a:prstGeom prst="line">
            <a:avLst/>
          </a:prstGeom>
          <a:ln w="158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5T11:27:48Z</dcterms:created>
  <dc:creator>theband</dc:creator>
  <dc:description/>
  <dc:language>en-US</dc:language>
  <cp:lastModifiedBy>IQB</cp:lastModifiedBy>
  <dcterms:modified xsi:type="dcterms:W3CDTF">2006-06-22T16:55:37Z</dcterms:modified>
  <cp:revision>97</cp:revision>
  <dc:subject/>
  <dc:title>PowerPoint-Präsentation</dc:title>
</cp:coreProperties>
</file>