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41B-0868-4466-A865-41F0901C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610-3AE0-4D5A-80CF-C04375C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52D-24A5-4A5C-BE42-B7F22F39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17B-AF24-4C03-B52B-53B5C3BD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22E-FB3F-4BCE-8D46-9951E95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5A7-74DF-4D7C-855F-AECD1B9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6B3-04C8-4889-9BAE-90A052C7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B5F-C46F-42BB-B29C-F4FDD33A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E02-79A0-4251-8534-D8262B78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4D2-4707-402E-905F-AB2AC9E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9CA-8943-4F4D-8059-1B142C5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617-26E4-44C4-9E26-6AE59622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E82-B0A6-46DC-91CB-730F44EA77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611360"/>
            <a:ext cx="763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um Verhältnis von Lernstandserhebungen / Vergleichsarbeiten und zentr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chlussprüfung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ste Thes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4149720"/>
            <a:ext cx="28083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reas Büch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er Dobbe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ner P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1557360"/>
            <a:ext cx="763272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gaben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prüche an Fairness / Gerech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bewer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richts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cher und Domänen / curriculare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k und Fö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62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18900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nen primär der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Unterrichtsentwicklung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ndem längerfristig erworbene Kompetenzen, wie sie in den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ildungsstandards der KMK bzw. entsprechenden länderbezogenen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msetzungen definiert sind, überprüft werden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Ergebnisse für Lerngruppen in vergleichende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erspektive (norm- und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kriterienbezogen)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ückgemeldet werden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externen Evaluationsdaten fü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chulinterne fachliche Diskurse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und die Weiterentwicklung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es Unterrichts genutz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115920"/>
            <a:ext cx="597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560" y="1052640"/>
            <a:ext cx="8858520" cy="4502160"/>
            <a:chOff x="250560" y="1052640"/>
            <a:chExt cx="8858520" cy="4502160"/>
          </a:xfrm>
        </p:grpSpPr>
        <p:sp>
          <p:nvSpPr>
            <p:cNvPr id="48" name=""/>
            <p:cNvSpPr/>
            <p:nvPr/>
          </p:nvSpPr>
          <p:spPr>
            <a:xfrm>
              <a:off x="2050920" y="3357720"/>
              <a:ext cx="705816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dienen primär der </a:t>
              </a:r>
              <a:r>
                <a:rPr b="1" lang="de-DE" sz="1800" spc="-1" strike="noStrike">
                  <a:solidFill>
                    <a:srgbClr val="003300"/>
                  </a:solidFill>
                  <a:latin typeface="Times New Roman"/>
                </a:rPr>
                <a:t>Zertifizierung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 von individuellen Schüler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leistungen, 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indem - orientiert an curricular gesetzten Anforderungen - Aufgab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(und Bewertungsinstrumente) eingesetzt werden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die Schülerleistungen an a priori gesetzten Benchmarks bewertet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werd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50560" y="1341360"/>
              <a:ext cx="6769080" cy="38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20000" y="10526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2360" y="61272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generieren Ergebnisse auf der Grundlage von Testaufgaben,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 im Sinne der „PISA-Methodologie“ skalierbar sind und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empirisch fundierte Kompetenzniveaumodelle formulier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lassen.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se unterscheiden sich in der Regel von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Aufgabenformaten, die traditionell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in Klassenarbeiten verwendet werden –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vor allem bezüglich ihr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Komplexität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15920"/>
            <a:ext cx="59767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gaben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9001080" cy="4463640"/>
            <a:chOff x="250920" y="1125360"/>
            <a:chExt cx="9001080" cy="4463640"/>
          </a:xfrm>
        </p:grpSpPr>
        <p:sp>
          <p:nvSpPr>
            <p:cNvPr id="54" name=""/>
            <p:cNvSpPr/>
            <p:nvPr/>
          </p:nvSpPr>
          <p:spPr>
            <a:xfrm>
              <a:off x="2050920" y="3654360"/>
              <a:ext cx="720108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streben zurzeit keine Skalierbarkeit an und sind damit in den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Aufgabenformaten flexibler. Sie können damit eher Unterrichts- und Klassenarbeitsformaten aufgreifen. 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50920" y="1125360"/>
              <a:ext cx="6481440" cy="4463640"/>
              <a:chOff x="250920" y="1125360"/>
              <a:chExt cx="6481440" cy="44636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250920" y="1468080"/>
                <a:ext cx="6481440" cy="41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32360" y="1125360"/>
                <a:ext cx="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2360" y="892080"/>
            <a:ext cx="5327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berücksichtigen Schulausgangslagen (Standorttypen /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Kontextgruppen / Sozialindex) bei der Ergebnisrück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meldung, damit die Schulen  bei der Auswertung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er Schülerergebnisse eine Abschätzung ihres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Beitrags vornehmen könn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(value added approach)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15920"/>
            <a:ext cx="3168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prüche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ness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ch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1052640"/>
            <a:ext cx="8640720" cy="4752360"/>
            <a:chOff x="179280" y="1052640"/>
            <a:chExt cx="8640720" cy="4752360"/>
          </a:xfrm>
        </p:grpSpPr>
        <p:sp>
          <p:nvSpPr>
            <p:cNvPr id="61" name=""/>
            <p:cNvSpPr/>
            <p:nvPr/>
          </p:nvSpPr>
          <p:spPr>
            <a:xfrm>
              <a:off x="2374920" y="3860640"/>
              <a:ext cx="6445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zielen durch zentral vorgegebene Aufgabenstellung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Bewertungsschlüssel auf ein Verfahren der Abschlussvergabe, dessen zentraler Anteil – also die zentralen Prüfungen – landesweit vergleichbar ist</a:t>
              </a:r>
              <a:br>
                <a:rPr sz="1800"/>
              </a:b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(Vergleichbarkeit des zertifizierten Leistungsstandes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79280" y="1052640"/>
              <a:ext cx="6876720" cy="4752360"/>
              <a:chOff x="179280" y="1052640"/>
              <a:chExt cx="6876720" cy="4752360"/>
            </a:xfrm>
          </p:grpSpPr>
          <p:sp>
            <p:nvSpPr>
              <p:cNvPr id="63" name=""/>
              <p:cNvSpPr/>
              <p:nvPr/>
            </p:nvSpPr>
            <p:spPr>
              <a:xfrm flipH="1">
                <a:off x="179280" y="1417680"/>
                <a:ext cx="6876720" cy="43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56000" y="105264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2360" y="1173240"/>
            <a:ext cx="532764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sind im Hinblick auf die Bewertung individueller Schülerleistungen ein Screening-Instrument.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e Ergebnisse haben im Kontext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diagnostischer Verfahren ihren 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Stellenwert (Hinweischarakter)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5920"/>
            <a:ext cx="3168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bewertu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1052640"/>
            <a:ext cx="8534160" cy="4176360"/>
            <a:chOff x="250920" y="1052640"/>
            <a:chExt cx="8534160" cy="4176360"/>
          </a:xfrm>
        </p:grpSpPr>
        <p:sp>
          <p:nvSpPr>
            <p:cNvPr id="68" name=""/>
            <p:cNvSpPr/>
            <p:nvPr/>
          </p:nvSpPr>
          <p:spPr>
            <a:xfrm>
              <a:off x="2340000" y="3068640"/>
              <a:ext cx="6445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39"/>
                </a:spcBef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zielen auf Individualbewertung. Die punktuelle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Leistungsüberprüfung mit zentral vorgegebenen Bewertungsschlüsseln wird ergänzt um weitere Leistungsaspekte (pädagogische Bewertung, Vornoten …) – hat aber ein großes Gewicht und muss daher individuell möglichst verlässlich se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50920" y="1052640"/>
              <a:ext cx="5941440" cy="4176360"/>
              <a:chOff x="250920" y="1052640"/>
              <a:chExt cx="5941440" cy="417636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250920" y="1373400"/>
                <a:ext cx="5941440" cy="385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92360" y="1052640"/>
                <a:ext cx="0" cy="32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2360" y="907920"/>
            <a:ext cx="5327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zielen auf standardorientierte Unterrichtsentwicklung im Kontext einer Professionalisierung des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achlichen Diskurse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115920"/>
            <a:ext cx="367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richtsentwickl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3151080"/>
            <a:ext cx="680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ZP</a:t>
            </a:r>
            <a:br>
              <a:rPr sz="2400"/>
            </a:b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verfolgen zunehmend auch das Ziel im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Zusammenhang eines Qualitätssicherungssystems Beiträge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zur Unterrichtsentwicklung zu leisten (kriterienorientierte Auswertung, Bereitstellung von Benchmarks …) </a:t>
            </a:r>
            <a:r>
              <a:rPr b="0" lang="de-DE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560" y="1052640"/>
            <a:ext cx="5292720" cy="3742920"/>
            <a:chOff x="574560" y="1052640"/>
            <a:chExt cx="5292720" cy="3742920"/>
          </a:xfrm>
        </p:grpSpPr>
        <p:sp>
          <p:nvSpPr>
            <p:cNvPr id="76" name=""/>
            <p:cNvSpPr/>
            <p:nvPr/>
          </p:nvSpPr>
          <p:spPr>
            <a:xfrm flipH="1">
              <a:off x="574560" y="1339920"/>
              <a:ext cx="5292720" cy="34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7280" y="10526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360" y="907920"/>
            <a:ext cx="5327640" cy="25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okussieren auf einzelne Domänen ausgewählter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ächer, wobei perspektivisch der Anspruch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esteht, die Breite der Testfächer abzubilden.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Es besteht eine enge Anbindung an Kompetenzerwartungen der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ildungsstandard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115920"/>
            <a:ext cx="36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cher und Domänen / curriculare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280" y="1052640"/>
            <a:ext cx="8640720" cy="4844160"/>
            <a:chOff x="179280" y="1052640"/>
            <a:chExt cx="8640720" cy="4844160"/>
          </a:xfrm>
        </p:grpSpPr>
        <p:sp>
          <p:nvSpPr>
            <p:cNvPr id="81" name=""/>
            <p:cNvSpPr/>
            <p:nvPr/>
          </p:nvSpPr>
          <p:spPr>
            <a:xfrm>
              <a:off x="2016000" y="3151080"/>
              <a:ext cx="6804000" cy="27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012"/>
                </a:spcBef>
                <a:tabLst>
                  <a:tab algn="l" pos="0"/>
                  <a:tab algn="l" pos="322200"/>
                  <a:tab algn="l" pos="644400"/>
                  <a:tab algn="l" pos="966960"/>
                  <a:tab algn="l" pos="1289160"/>
                  <a:tab algn="l" pos="1611360"/>
                  <a:tab algn="l" pos="1933560"/>
                  <a:tab algn="l" pos="2255760"/>
                  <a:tab algn="l" pos="2577960"/>
                  <a:tab algn="l" pos="2900520"/>
                  <a:tab algn="l" pos="3222720"/>
                  <a:tab algn="l" pos="3544920"/>
                  <a:tab algn="l" pos="3867120"/>
                  <a:tab algn="l" pos="4189320"/>
                  <a:tab algn="l" pos="4511520"/>
                  <a:tab algn="l" pos="4834080"/>
                  <a:tab algn="l" pos="5156280"/>
                  <a:tab algn="l" pos="5478480"/>
                  <a:tab algn="l" pos="5800680"/>
                  <a:tab algn="l" pos="6122880"/>
                  <a:tab algn="l" pos="644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müssen sich in enger Anbindung an die curricularen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Vorgaben des jeweiligen Bundeslandes auf zentrale Bereiche 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der Fächer beziehen und die Breite des jeweiligen Fachs bestmöglich berücksichtigen, um individuellen Leistungsprofilen gerecht zu werden. Angesichts eher outputorientierter Lehrpläne bedarf es zur Orientierung der Schulen weitergehender inhaltlicher Konkretisierungen ( z.B. Unterrichtsvorgaben in NRW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79280" y="1052640"/>
              <a:ext cx="5868720" cy="4104720"/>
              <a:chOff x="179280" y="1052640"/>
              <a:chExt cx="5868720" cy="410472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179280" y="1368000"/>
                <a:ext cx="5868720" cy="37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48000" y="1052640"/>
                <a:ext cx="0" cy="31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2360" y="476280"/>
            <a:ext cx="532764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SE </a:t>
            </a:r>
            <a:br>
              <a:rPr sz="24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eben Hinweise auf Stärken und Schwächen von Lerngruppen und indizieren Förderbedarfe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(fachliche Schwerpunktsetzungen über die Jahrgangsstufen hinweg)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örderperspektiven für die getesteten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ruppen sind aus schulischer Sich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esonders dann evident, wenn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ie Testbereiche gut mi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enen der ZP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bgestimmt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23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115920"/>
            <a:ext cx="36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gleichsa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k u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1049400"/>
            <a:ext cx="8785440" cy="4683960"/>
            <a:chOff x="179280" y="1049400"/>
            <a:chExt cx="8785440" cy="4683960"/>
          </a:xfrm>
        </p:grpSpPr>
        <p:sp>
          <p:nvSpPr>
            <p:cNvPr id="88" name=""/>
            <p:cNvSpPr/>
            <p:nvPr/>
          </p:nvSpPr>
          <p:spPr>
            <a:xfrm>
              <a:off x="2160720" y="3570120"/>
              <a:ext cx="680400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012"/>
                </a:spcBef>
                <a:tabLst>
                  <a:tab algn="l" pos="0"/>
                  <a:tab algn="l" pos="322200"/>
                  <a:tab algn="l" pos="644400"/>
                  <a:tab algn="l" pos="966960"/>
                  <a:tab algn="l" pos="1289160"/>
                  <a:tab algn="l" pos="1611360"/>
                  <a:tab algn="l" pos="1933560"/>
                  <a:tab algn="l" pos="2255760"/>
                  <a:tab algn="l" pos="2577960"/>
                  <a:tab algn="l" pos="2900520"/>
                  <a:tab algn="l" pos="3222720"/>
                  <a:tab algn="l" pos="3544920"/>
                  <a:tab algn="l" pos="3867120"/>
                  <a:tab algn="l" pos="4189320"/>
                  <a:tab algn="l" pos="4511520"/>
                  <a:tab algn="l" pos="4834080"/>
                  <a:tab algn="l" pos="5156280"/>
                  <a:tab algn="l" pos="5478480"/>
                  <a:tab algn="l" pos="5800680"/>
                  <a:tab algn="l" pos="6122880"/>
                  <a:tab algn="l" pos="64450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ZP</a:t>
              </a:r>
              <a:br>
                <a:rPr sz="2400"/>
              </a:b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zertifizieren Leistungs am Ende von Bildungsabschnitte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und enthalten somit keine individuelle Perspektive von 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de-DE" sz="1800" spc="-1" strike="noStrike">
                  <a:solidFill>
                    <a:srgbClr val="003300"/>
                  </a:solidFill>
                  <a:latin typeface="Times New Roman"/>
                </a:rPr>
                <a:t>„Diagnose und Fördern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79280" y="1049400"/>
              <a:ext cx="6768720" cy="4683960"/>
              <a:chOff x="179280" y="1049400"/>
              <a:chExt cx="6768720" cy="468396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179280" y="1409040"/>
                <a:ext cx="6768720" cy="432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48000" y="1049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8:31:11Z</dcterms:created>
  <dc:creator>bonsen</dc:creator>
  <dc:description/>
  <dc:language>en-US</dc:language>
  <cp:lastModifiedBy>Christiane Roks</cp:lastModifiedBy>
  <dcterms:modified xsi:type="dcterms:W3CDTF">2006-12-18T12:50:26Z</dcterms:modified>
  <cp:revision>502</cp:revision>
  <dc:subject/>
  <dc:title>PowerPoint-Präsentation</dc:title>
</cp:coreProperties>
</file>