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wmf" ContentType="image/x-wmf"/>
  <Override PartName="/ppt/media/image8.wmf" ContentType="image/x-wmf"/>
  <Override PartName="/ppt/media/image18.jpeg" ContentType="image/jpeg"/>
  <Override PartName="/ppt/media/image16.wmf" ContentType="image/x-wmf"/>
  <Override PartName="/ppt/media/image10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4C7-A19E-4017-9356-57E31EF8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153-F28B-4297-AB64-A97CEFFF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358-27BD-40A4-94B6-80BE50BF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883-9CF9-43D7-AD79-81142142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D38-4E23-42DB-8D1F-74ADC194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EE7-96B4-44DD-B687-86B7C6DF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29C-BC9C-448F-A7F6-B98A9BBA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0D3-8445-4D66-B999-23BBDF66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D19-A085-46FC-9260-148C8FBE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E68-F151-4577-B514-C47C2A67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75F-C4C7-420C-9F67-8BA8B5C9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575-BC3C-4CD0-B2FB-7A114C36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B762-D6EB-4E15-BD52-7E84D1193C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2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6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2120" y="5599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1916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Normierung der Bildungs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Stand und Perspektiven für 2007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Bericht aus dem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877080" y="1440"/>
            <a:ext cx="2232000" cy="1468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47680" y="4821120"/>
            <a:ext cx="4083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Prof. Dr. Olaf Kö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Humboldt-Universität zu B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Institut zur Qualitäts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im Bild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iqboffice@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www.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252360" y="0"/>
            <a:ext cx="77770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Erste vorläufige IRT-Analy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Conquest-Lauf zur Leitidee Muster und Stru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2133720"/>
            <a:ext cx="856944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116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94 Items mit akzeptablen Fit (infit &lt; 1.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a50021"/>
                </a:solidFill>
                <a:latin typeface="Verdana"/>
              </a:rPr>
              <a:t>N</a:t>
            </a: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 = 56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Bestimmung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Itemschwierigkeiten (logits; </a:t>
            </a:r>
            <a:r>
              <a:rPr b="1" i="1" lang="de-DE" sz="1800" spc="-1" strike="noStrike">
                <a:solidFill>
                  <a:srgbClr val="a50021"/>
                </a:solidFill>
                <a:latin typeface="Verdana"/>
              </a:rPr>
              <a:t>M</a:t>
            </a: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 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Warm-Estimates für die Personen (</a:t>
            </a:r>
            <a:r>
              <a:rPr b="1" i="1" lang="de-DE" sz="1800" spc="-1" strike="noStrike">
                <a:solidFill>
                  <a:srgbClr val="a50021"/>
                </a:solidFill>
                <a:latin typeface="Verdana"/>
              </a:rPr>
              <a:t>M</a:t>
            </a: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 = -0.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22880" y="2050920"/>
            <a:ext cx="34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Itemschwierigkeiten: </a:t>
            </a:r>
            <a:r>
              <a:rPr b="0" i="1" lang="en-US" sz="2000" spc="-1" strike="noStrike">
                <a:solidFill>
                  <a:srgbClr val="a50021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252360" y="0"/>
            <a:ext cx="77770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Erste vorläufige IRT-Analy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Conquest-Lauf zur Leitidee Muster und Stru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5640" y="2708280"/>
          <a:ext cx="7345440" cy="4033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708280"/>
                    <a:ext cx="734544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58960" y="1260360"/>
            <a:ext cx="5624640" cy="5624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252360" y="-316080"/>
            <a:ext cx="777708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Conquest-Lauf zur Leitidee Muster und Struktur; Verteilung der Schülerfähig-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4067280" y="2204640"/>
            <a:ext cx="0" cy="410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92360" y="2204640"/>
            <a:ext cx="0" cy="410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252360" y="219240"/>
            <a:ext cx="77770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Fazit der ersten Analy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2408400"/>
            <a:ext cx="856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Hoffnungsvolle Bef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Gute Reliabilitä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Guter Item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Genügend leichte Item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252360" y="219240"/>
            <a:ext cx="77770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Nächste Sch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9280" y="2408400"/>
            <a:ext cx="85694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Weitere IRT-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DIF-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3. vs. 4. Jahrgangsst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Jungen vs. Mäd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Migranten vs. Nicht-Migran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Starke vs. schwache Lä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Dimensions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Itemselektion auf der Basis der IRT- und DIF-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252360" y="0"/>
            <a:ext cx="7777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usblick: Normierung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ufgaben in TIMSS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9280" y="2408400"/>
            <a:ext cx="856944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3. und 4. Jahrgangs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Verlinkung mit TIMSS-Auf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Stichprobe: 250 Schulen, aus denen jeweils eine 3. und eine 4. Klasse gezogen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Zusätzlich: 32 4. Klassen aus Schulen mit hohem Migrantenant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252360" y="0"/>
            <a:ext cx="7777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kzeptanz der Bildung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in deutschen Grundschu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1836720"/>
            <a:ext cx="84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a50021"/>
                </a:solidFill>
                <a:latin typeface="Verdana"/>
              </a:rPr>
              <a:t>Typische Profile der Auseinandersetzung mit einer Innovation (SoC-Pro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rcRect l="4042" t="0" r="51341" b="17224"/>
          <a:stretch/>
        </p:blipFill>
        <p:spPr>
          <a:xfrm>
            <a:off x="647640" y="3502080"/>
            <a:ext cx="2384640" cy="1900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rcRect l="57282" t="0" r="0" b="17224"/>
          <a:stretch/>
        </p:blipFill>
        <p:spPr>
          <a:xfrm>
            <a:off x="3384720" y="3502080"/>
            <a:ext cx="2282760" cy="1900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rcRect l="7486" t="0" r="0" b="17224"/>
          <a:stretch/>
        </p:blipFill>
        <p:spPr>
          <a:xfrm>
            <a:off x="5977080" y="3502080"/>
            <a:ext cx="2238120" cy="190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160" y="5337000"/>
            <a:ext cx="220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627120"/>
                <a:tab algn="l" pos="900000"/>
                <a:tab algn="l" pos="1160640"/>
                <a:tab algn="l" pos="143352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50021"/>
                </a:solidFill>
                <a:latin typeface="Arial"/>
              </a:rPr>
              <a:t>0    1    2    3    4    5    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627120"/>
                <a:tab algn="l" pos="900000"/>
                <a:tab algn="l" pos="1160640"/>
                <a:tab algn="l" pos="143352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50021"/>
                </a:solidFill>
                <a:latin typeface="Arial"/>
              </a:rPr>
              <a:t>SoC-Stuf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0" y="5337000"/>
            <a:ext cx="220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627120"/>
                <a:tab algn="l" pos="900000"/>
                <a:tab algn="l" pos="1160640"/>
                <a:tab algn="l" pos="143352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50021"/>
                </a:solidFill>
                <a:latin typeface="Arial"/>
              </a:rPr>
              <a:t>0    1    2    3    4    5    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627120"/>
                <a:tab algn="l" pos="900000"/>
                <a:tab algn="l" pos="1160640"/>
                <a:tab algn="l" pos="143352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50021"/>
                </a:solidFill>
                <a:latin typeface="Arial"/>
              </a:rPr>
              <a:t>SoC-Stuf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01200" y="5337000"/>
            <a:ext cx="220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627120"/>
                <a:tab algn="l" pos="900000"/>
                <a:tab algn="l" pos="1160640"/>
                <a:tab algn="l" pos="143352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50021"/>
                </a:solidFill>
                <a:latin typeface="Arial"/>
              </a:rPr>
              <a:t>0    1    2    3    4    5    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627120"/>
                <a:tab algn="l" pos="900000"/>
                <a:tab algn="l" pos="1160640"/>
                <a:tab algn="l" pos="143352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50021"/>
                </a:solidFill>
                <a:latin typeface="Arial"/>
              </a:rPr>
              <a:t>SoC-Stuf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7480" y="5942160"/>
            <a:ext cx="47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0 - Kein oder geringes Bewussts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1 - Fokus Information </a:t>
            </a: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2 - Fokus persönliche Betroffen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3 – Fokus Aufgaben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17840" y="5942160"/>
            <a:ext cx="403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4 - Fokus Auswirkungen auf Lern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5 – Fokus Kooperationsmöglichk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Verdana"/>
              </a:rPr>
              <a:t>6 – Fokus Revision/ Optim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252360" y="0"/>
            <a:ext cx="7777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kzeptanz der Bildung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Bef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7486" t="0" r="0" b="17286"/>
          <a:stretch/>
        </p:blipFill>
        <p:spPr>
          <a:xfrm>
            <a:off x="5435640" y="3546360"/>
            <a:ext cx="2419200" cy="1898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76720" y="1628640"/>
            <a:ext cx="388800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=1068 Grundschullehrerinnen und -leh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3720" y="5907240"/>
            <a:ext cx="3860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0 - Kein oder geringes Bewussts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1 - Fokus Information </a:t>
            </a: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2 - Fokus persönliche Betroffen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3 – Fokus Aufgaben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59280" y="5907240"/>
            <a:ext cx="403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4 - Fokus Auswirkungen auf Lern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5 – Fokus Kooperationsmöglichk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6 – Fokus Revision/ Optim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280" y="1341360"/>
            <a:ext cx="4608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252360" y="0"/>
            <a:ext cx="777708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kzeptanz der Bildung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50021"/>
                </a:solidFill>
                <a:latin typeface="Verdana"/>
              </a:rPr>
              <a:t>Clusterprofile für SoC Skalenmitte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50021"/>
                </a:solidFill>
                <a:latin typeface="Verdana"/>
              </a:rPr>
              <a:t>werte (N=10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150920" y="5726160"/>
            <a:ext cx="47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0 - Kein oder geringes Bewussts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1 - Fokus Information </a:t>
            </a: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2 - Fokus persönliche Betroffen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3 – Fokus Aufgaben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51280" y="5726160"/>
            <a:ext cx="403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4 - Fokus Auswirkungen auf Lern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5 – Fokus Kooperationsmöglichk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6 – Fokus Revision/ Optim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900000" y="1631880"/>
            <a:ext cx="6301080" cy="4145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rcRect l="7486" t="0" r="0" b="17286"/>
          <a:stretch/>
        </p:blipFill>
        <p:spPr>
          <a:xfrm>
            <a:off x="6443640" y="1197000"/>
            <a:ext cx="24192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549360"/>
            <a:ext cx="654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  <a:ea typeface="Times New Roman"/>
              </a:rPr>
              <a:t>Arbeitsstand und Planung für die Sekundarstufe I: 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25440" y="2570040"/>
          <a:ext cx="8567640" cy="3946680"/>
        </p:xfrm>
        <a:graphic>
          <a:graphicData uri="http://schemas.openxmlformats.org/drawingml/2006/table">
            <a:tbl>
              <a:tblPr/>
              <a:tblGrid>
                <a:gridCol w="2467080"/>
                <a:gridCol w="2543040"/>
                <a:gridCol w="1900440"/>
                <a:gridCol w="165708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F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-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Mathe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rung 9. J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(PISA-Konsort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achnor-mierung 8. und 10. J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1. Fremdspr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ent-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-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aturwissen-schaf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4574520" y="19638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Ja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05720" y="5381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84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711520"/>
            <a:ext cx="856944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rbeitsstand und Ausblick in der Grundsch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kzeptanz der Bildungsstandards in der Grundsch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rbeitsstand und Ausblick in der Sekundarstuf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rbeitsstand im Bereich der Illustration und Implementation der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rbeitsstand Technology-based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5280" y="333360"/>
            <a:ext cx="654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  <a:ea typeface="Times New Roman"/>
              </a:rPr>
              <a:t>Arbeitsstand und Planung für die Sekundarstufe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  <a:ea typeface="Times New Roman"/>
              </a:rPr>
              <a:t>Agenda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989000"/>
            <a:ext cx="8569440" cy="44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Nachnormierung Mathematik Sekundarstuf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Ende April bis Anfang J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200 – 250 Aufgaben für die 8. und 10. J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a50021"/>
                </a:solidFill>
                <a:latin typeface="Verdana"/>
              </a:rPr>
              <a:t>N</a:t>
            </a: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 ~ 5.000 (200 Schulen) aus 8., 9. und 10. Kla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Pilotierung Englisch und Französ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Ende April bis Anfang J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Jeweils ca. 450 Items aus den Bereichen Lesen, Hören und Schreiben für die 8./9. Jg. (HS) und 9./10. Jg. (M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a50021"/>
                </a:solidFill>
                <a:latin typeface="Verdana"/>
              </a:rPr>
              <a:t>N</a:t>
            </a: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 ~ 3.000 (120 Schul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Deutsch: Aufgabenentwicklung und Präpilotie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Naturwissenschaften: Vorbereitung der Aufgabenent-wicklung und ersten Aufgabengenerie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395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Arbeitsstand im Bereich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Implementation: Handbücher zum kompetenzorientierten Unterr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2408400"/>
            <a:ext cx="856944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Mathematik Sekundarstufe I: Reader im Herbst 2006 erschienen (Blum u. a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Mathematik Grundschule: Herbst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Deutsch Grundschule: Frühjahr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Französisch: Herbst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Englisch: 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Deutsch: off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Naturwissenschaften: 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9280" y="40464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00"/>
                </a:solidFill>
                <a:latin typeface="Verdana"/>
              </a:rPr>
              <a:t>Arbeitsstand Technology-based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2205000"/>
            <a:ext cx="806616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Entwicklung eines Itembanking-Systems weitgehend abgeschloss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Seit September 2006: W2-Professur (S) für Technology-based Assessment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Vorbereitung einer Forschungs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Schwerpunkt in 2007: Machbarkeitsstudien in Hinblick auf Computer-based Assessment in der Grundschule (Mathematik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1752480"/>
            <a:ext cx="3276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288000" bIns="46800" anchor="t">
            <a:spAutoFit/>
          </a:bodyPr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on</a:t>
            </a:r>
            <a:r>
              <a:rPr b="0" lang="de-DE" sz="1100" spc="-1" strike="noStrike">
                <a:solidFill>
                  <a:srgbClr val="666666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+49[30]2093-53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ax</a:t>
            </a:r>
            <a:r>
              <a:rPr b="0" lang="de-DE" sz="1100" spc="-1" strike="noStrike">
                <a:solidFill>
                  <a:srgbClr val="000000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 +49[30]2093-53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IQBoffice@IQB.hu-berlin.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www.IQB.hu-berlin.de</a:t>
            </a:r>
            <a:r>
              <a:rPr b="0" lang="de-DE" sz="1600" spc="-1" strike="noStrike">
                <a:solidFill>
                  <a:srgbClr val="000000"/>
                </a:solidFill>
                <a:latin typeface="MetaBook-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P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ostadres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Humboldt-Universität zu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Unter den Linden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099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Sit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Jägerstraße 10-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117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638680" y="5867280"/>
            <a:ext cx="35053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288000" tIns="288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Ansprechpartner -&gt;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Prof. Dr. Olaf Kö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Direk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85800" y="3772080"/>
            <a:ext cx="1676520" cy="531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85800" y="3200400"/>
            <a:ext cx="2895480" cy="571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825440" y="4643280"/>
            <a:ext cx="410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Vielen Dank fü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Ihre Aufmerksamke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81080" y="0"/>
            <a:ext cx="70866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Stand der Arbeiten in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Grundschule: 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4640" y="4062240"/>
            <a:ext cx="8748720" cy="576360"/>
          </a:xfrm>
          <a:prstGeom prst="rightArrow">
            <a:avLst>
              <a:gd name="adj1" fmla="val 50000"/>
              <a:gd name="adj2" fmla="val 379482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80" y="5254560"/>
            <a:ext cx="234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Juli 2005 b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Januar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Entwicklung v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ca. 900 Deutsch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und 900 Mathemati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94040" y="355932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44520" y="2000160"/>
            <a:ext cx="170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pril bis Ju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Pilotierung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gaben i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Rahmen 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PIRLS/IG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69480" y="5240160"/>
            <a:ext cx="182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Frühjahr 200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Normierung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48560" y="5238720"/>
            <a:ext cx="187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Frühjahr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Ländervergle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 der Basis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9640" y="451008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71920" y="451008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58040" y="451008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29320" y="2492280"/>
            <a:ext cx="2318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Sommer 200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Berichterstatt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über die Norm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der 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59200" y="357336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24000" y="223920"/>
            <a:ext cx="75600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rbeitsstand: Pilotieru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IGLU/PIRL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2266920"/>
            <a:ext cx="8569440" cy="31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390 Schulen mit je einer 3. und einer 4. K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In beiden Klassen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130 Klassen nur Deutsch (Lesen, Hören, Sprachbetrachtung, Orthografie, freies Schrei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130 Klassen nur Mathematik (alle Leitideen und allgemeinen Kompetenz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130 Klassen Deutsch und Mathematik gemis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80 Minuten Testzeit (2 Schulstun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324000" y="19080"/>
            <a:ext cx="75600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rbeitsstand Mathematik: Pilotierte Aufgaben in IGLU/ PIRL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2266920"/>
            <a:ext cx="8569440" cy="33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478 Aufgaben mit 872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Zahl der berücksichtigten Items: 7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Klasse 3: 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2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Klasse 4: 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Klasse 3 u. 4: 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Ein Teil der Items aus V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Ein weiterer Teil der Items aus IGLU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In 2007 werden zusätzliche Items aus TIMSS verfügbar s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252360" y="0"/>
            <a:ext cx="77770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Erste vorläufige IRT-Analy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Conquest-Lauf zur Leitidee Daten, Häufigkeit und Zu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133720"/>
            <a:ext cx="856944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40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a50021"/>
                </a:solidFill>
                <a:latin typeface="Verdana"/>
              </a:rPr>
              <a:t>N</a:t>
            </a: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 = 34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Bestimmung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Itemschwierigkeiten (logits; </a:t>
            </a:r>
            <a:r>
              <a:rPr b="1" i="1" lang="de-DE" sz="1800" spc="-1" strike="noStrike">
                <a:solidFill>
                  <a:srgbClr val="a50021"/>
                </a:solidFill>
                <a:latin typeface="Verdana"/>
              </a:rPr>
              <a:t>M</a:t>
            </a: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 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Itemfit-Statisti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Warm-Estimates für die Personen (</a:t>
            </a:r>
            <a:r>
              <a:rPr b="1" i="1" lang="de-DE" sz="1800" spc="-1" strike="noStrike">
                <a:solidFill>
                  <a:srgbClr val="a50021"/>
                </a:solidFill>
                <a:latin typeface="Verdana"/>
              </a:rPr>
              <a:t>M</a:t>
            </a: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 = .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826920" y="2770200"/>
          <a:ext cx="7490160" cy="411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2770200"/>
                    <a:ext cx="7490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05720" y="205092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Itemfitmaß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4941720"/>
            <a:ext cx="1439640" cy="14400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252360" y="0"/>
            <a:ext cx="77770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Erste vorläufige IRT-Analy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Conquest-Lauf zur Leitidee Daten, Häufigkeit und Zu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2880" y="2050920"/>
            <a:ext cx="34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Itemschwierigkeiten: </a:t>
            </a:r>
            <a:r>
              <a:rPr b="0" i="1" lang="en-US" sz="2000" spc="-1" strike="noStrike">
                <a:solidFill>
                  <a:srgbClr val="a50021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98560" y="2666880"/>
          <a:ext cx="6797520" cy="4068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98560" y="2666880"/>
                    <a:ext cx="67975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-252360" y="0"/>
            <a:ext cx="77770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Erste vorläufige IRT-Analy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Conquest-Lauf zur Leitidee Daten, Häufigkeit und Zu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252360" y="-316080"/>
            <a:ext cx="777708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Conquest-Lauf zur Leitidee Daten, Häufigkeit und Zufall; Verteilung der Schülerfäh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835280" y="1233360"/>
            <a:ext cx="5624280" cy="5624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84720" y="2060640"/>
            <a:ext cx="0" cy="41767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1:27:48Z</dcterms:created>
  <dc:creator>theband</dc:creator>
  <dc:description/>
  <dc:language>en-US</dc:language>
  <cp:lastModifiedBy>Christiane Roks</cp:lastModifiedBy>
  <dcterms:modified xsi:type="dcterms:W3CDTF">2006-12-18T12:49:08Z</dcterms:modified>
  <cp:revision>69</cp:revision>
  <dc:subject/>
  <dc:title>PowerPoint-Präsentation</dc:title>
</cp:coreProperties>
</file>